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0.png" ContentType="image/pn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05CD-5377-4F34-8F05-56399DD52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7B4E-A440-43E6-B50D-9D353D13F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1F7F-B1D1-430F-9E93-BF9E4892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6A21-228D-41DA-B031-BD63C2B39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99E0-64D5-44AC-BF9F-3DFF117CB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9539-9CE7-4217-B416-0BCC5D7EB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0B73-AE2F-4C88-9350-98A848F8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AB2D-272E-4519-A495-CE404A643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E9F2-67DF-4822-B340-00C8E6308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5B6B-6518-4862-9069-E2D14808C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D6F1-DDC1-4D55-949B-7001CBF6C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5F04-1068-4FBD-9FB9-07A2D2AE9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2344-110B-4115-BFC1-D30ACA71D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B788-76CD-4AC5-B16C-C952AB908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0447-A162-40BB-919E-B86007B8D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95CB-7EAA-4472-A80A-4E8C22341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50BC-1245-4005-B2F7-C0A072344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2AB-C222-416E-BEC3-9A4B554E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CE4-A74A-46CA-996B-F0C4B37E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6FAB-AA40-4668-A390-BBA73949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6D7-19E5-496C-ADDA-48B2E9F3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C684-3D4F-425A-8388-8BD97992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5B8A-2AE3-4084-BFF4-EA55A828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DFC2-4893-465F-B7E6-C48310FA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4149-6F09-4A5F-A422-1EA7760C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D3E7-B8BF-4DD9-B03B-F61EA689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E255-C954-4FFF-A7B7-15022841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B152-B916-46C3-92CD-EF479A08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4F7-8751-4251-9479-7605DE6D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3909-4319-4D4A-AD93-307295BA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4008-763B-462F-BDB4-2CC74A13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842C-1F30-4BF6-962A-F804C83C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AE49-EBC8-4E6E-BD3F-A2BF15D7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3FE5-6387-4F9F-A02C-74972801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7FD-3809-4C6E-9DE0-4FCD583B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4E2-C695-40C4-A8C4-BAECEE60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3F7-37EE-4418-A5D9-438B368E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E39-DB75-4F87-A230-0C183DC9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C3E-16C5-469D-AC52-DEDB4D22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0AC-5552-4739-A67C-B0AEDE3D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C6A-4A79-468E-A3CD-1003C532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CBA-01B3-4B8C-831C-B02453DC1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0" y="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Cđ và đt hội chứng ĐMV cấp không ST chênh lê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4FC2-FB1D-45DE-8E84-00CF3BC3D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24F7-7604-4FC2-BF7D-BB78AD802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HẨN ĐOÁN VÀ ĐIỀU TRỊ HỘI CHỨNG ĐMV CẤP KHÔNG ST CHÊNH LÊN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S.TS. Phạm Nguyễn V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ại học Y Khoa Phạm Ngọc Th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ệnh viện Tim Tâm Đứ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ện Tim Tp.H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E7A1-2764-4AE7-91CF-689E9D645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ác đặc điểm giúp nghĩ đau ngực là do nghẽn ĐMV (2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80880" y="617220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rcRect l="4279" t="37638" r="5128" b="27590"/>
          <a:stretch/>
        </p:blipFill>
        <p:spPr>
          <a:xfrm>
            <a:off x="609480" y="1752480"/>
            <a:ext cx="76964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B5A3-5749-45DA-A4A7-70A241B92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ác đặc điểm giúp nghĩ đau ngực là do nghẽn ĐMV (3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04920" y="652320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rcRect l="2984" t="71399" r="4476" b="4971"/>
          <a:stretch/>
        </p:blipFill>
        <p:spPr>
          <a:xfrm>
            <a:off x="533520" y="2133720"/>
            <a:ext cx="83055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C637-E2A7-4946-8378-236702673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CG/ b/n HCĐMVC, đau thắt ngực lúc nghỉ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920" y="6294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BE9C-ED7B-4F76-A7CF-D243CDE77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hóng thích chất chỉ điểm tổn thương cơ tim ở HC ĐMVC/KSTC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8" name="Picture 3" descr="f2"/>
          <p:cNvPicPr/>
          <p:nvPr/>
        </p:nvPicPr>
        <p:blipFill>
          <a:blip r:embed="rId1"/>
          <a:stretch/>
        </p:blipFill>
        <p:spPr>
          <a:xfrm>
            <a:off x="990720" y="1447920"/>
            <a:ext cx="7386480" cy="4708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0" y="6216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TL: Bassand JP et al. ESC Guidelines for the diagnosis and treatment of non ST segment elevation acute coronary syndrome. June 14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6516-C580-46DF-8E83-83D6EE233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Lượng định nguy cơ CĐTNKOĐ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 cơ cao: tái lưu thông ĐMV ng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 cơ trung bình: TLTĐMV trong vòng 72 gi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 cơ thấp: điều trị nội kh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FB04-CA25-4166-B16C-C55B8B027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VNI-Helve-Condense"/>
              </a:rPr>
              <a:t>Thang ñieåm nguy cô TIMI/ hoäi chöùng ÑMV caáp khoâng ST cheânh leâ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57200" y="6400800"/>
            <a:ext cx="822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9246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EF77-0CE0-4602-82F8-0BBBEA7DD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Khuyến cáo về chẩn đoán và khảo sát nguy cơ HCĐMVC/KSTC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ện pháp phối hợp: lâm sàng, ECG, chất chỉ điểm sinh học, CLS khác, chỉ số nguy c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G 12 CĐ: thực hiện trong vòng 10 phút (I.C); đo thêm V3R, V4R, V7 – 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o lại ECG khi có triệu chứng cơ năng, hoặc 6 – 12 giờ sau (I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o CTnT hoặc CTnI – lập lại 6 – 12 giờ sau nếu lần đầu âm (I-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ảo sát nguy cơ ngay (I.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êu âm tim: giúp chẩn đoán (+) và chẩn đoán phân biệt (I-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GS trước khi xuất viện nếu b/n không còn đau thắt ngực, ECG bình thường, troponin (-) (I-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L: Bassand JP et al. ESC Guidelines for the diagnosis and treatment of non ST segment elevation acute coronary syndrome. June 1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D3B9-4964-483F-8023-813D0D22D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ác biện pháp điều trị cấp thời HCĐMVC/KSTC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iều trị chống TMCB: chẹn bêta, nitrates, ức chế calci (nhóm non-DHP), nicorand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iều trị chống đ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ống kết tập tiểu c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i lưu thông Đ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90B3-6DAC-44B3-B325-14C4C1981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o sánh hiệu quả điều trị can thiệp với điều trị không can thiệp b/n HC ĐMVC/KSTC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61722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: Cannon CP et al. N. Engl J Med 2001; 344: 1879-18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1629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7BEB-4A9A-48E0-9A39-ADE8F531F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o sánh giữa can thiệp sớm với can thiệp muộn/ bệnh nhân HCĐMVC- KSTC 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(tử vong, NMCT, đột quỵ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61722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: Mehta SR et al.N Engl J Med 2009; 288: 1851-18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C06F-5042-4B17-8AAA-33F5E1B62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ác định nghĩa và sinh lý bệnh hội chứng động mạch vành cấp (HCĐMVC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04920" y="652320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B86D-CC5D-422B-A19F-71997B146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Điều trị ban đầu HCĐMVC/KSTC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3" name="Picture 4" descr="t11"/>
          <p:cNvPicPr/>
          <p:nvPr/>
        </p:nvPicPr>
        <p:blipFill>
          <a:blip r:embed="rId1">
            <a:lum contrast="48000"/>
          </a:blip>
          <a:srcRect l="0" t="1162" r="0" b="70821"/>
          <a:stretch/>
        </p:blipFill>
        <p:spPr>
          <a:xfrm>
            <a:off x="0" y="1600200"/>
            <a:ext cx="4572000" cy="18432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152280" y="48769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TL: Bassand JP et al. ESC Guidelines for the diagnosis and treatment of non ST segment elevation acute coronary syndrome. June 14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t11"/>
          <p:cNvPicPr/>
          <p:nvPr/>
        </p:nvPicPr>
        <p:blipFill>
          <a:blip r:embed="rId2">
            <a:lum contrast="48000"/>
          </a:blip>
          <a:srcRect l="0" t="28798" r="0" b="2481"/>
          <a:stretch/>
        </p:blipFill>
        <p:spPr>
          <a:xfrm>
            <a:off x="4572000" y="1569960"/>
            <a:ext cx="44956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322E-A004-4B6F-9AB5-A145AE382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Khuyến cáo sử dụng thuốc chống TMCB trên b/n HCĐMVC/KSTC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ẹn bêta (I-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ates giúp giảm triệu chứng đau thắt ngực (I-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Ức chế calci, kết hợp với chẹn bêta và nitrate. Hữu ích ở b/n có CCĐ chẹn bêta (I-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fedipine hoặc các DHPs khác, không được dùng, trừ phi phối hợp với chẹn bê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L: Bassand JP et al. ESC Guidelines for the diagnosis and treatment of non ST segment elevation acute coronary syndrome. June 1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AAFB-510D-476A-A2E7-3D130F779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ác thuốc chống đông/ HCĐMVC/KSTC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arin không phân đoạn (T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arin TLPT thấp (T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daparinux (TDD): ức chế yếu tố 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chất ức chế trực tiếp thrombin (TTM): hirudin, bivalirudin, argatro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ốc đối kháng vit K (uống): warfarin, acenocouma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6331-B017-4492-A111-32145BA21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ondaparinux: chất ức chế yếu tố Xa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saccharide tổng hợp, T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 khả dụng 100%, bán hủy 17 gi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ống chỉ định: độ thanh thải creatinine &lt; 30ml/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ều dùng HCĐMV cấp: liều cố định 2,5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20A4-E34A-461B-A678-B904FC0EC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Nghiên cứu OASIS - 5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sánh, ngẫu nhiên; 20078 b/n NMCTC/K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óm fondaparinux 2,5mg/ngày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óm enoxaparin 1mg/kg x2/ngày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ối đa 8 ngà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êu chí: tử vong , NMCT , đột quỵ ( 5,4% enoxaparine so với 5,3% fondaparinux , p=0,89)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êu chí gộp : tử vong , NMCT, đột quỵ , xuất huyết nặng ( 9,5% enoxaparine so với 7,3% fondaparinux p=0,035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L: Yusuf S et al. N. Engl J Med 2006; 354: 1464 - 14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FBFD-6CE5-4232-ACA0-FF090F652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ác chất ức chế trực tiếp thrombin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(DTI = Direct Thrombin Inhibitors)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ru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valiru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atro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hrombin = yếu tố 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I: ức chế thrombin, do đó ngăn cản fibrinogen -&gt; 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F3C3-E7FE-4287-887B-653B08D95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huốc chống kết tập tiểu cầu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enopyrid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iclop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lopidog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asug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agr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Ức chế thụ thể glycoprotein IIB/II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c nghiên cứu lớn: CURE, CREDO, CHARISMA, TRITON-TIMI 38, P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C77F-DE0A-4698-8CA5-3D186DECA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o sánh giữa clopidogrel với placebo trong nghiên cứu CUR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: Fox KA et al. Circulation 2004; 110: 1202-1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5413-A36E-4820-A92D-BD07CCD9A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o sánh hiệu quả điều trị các thuốc chống kết tập tiểu cầu mới với clopidogr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04920" y="6294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>
            <a:lum bright="-18000"/>
          </a:blip>
          <a:srcRect l="3061" t="25334" r="4082" b="3732"/>
          <a:stretch/>
        </p:blipFill>
        <p:spPr>
          <a:xfrm>
            <a:off x="0" y="15238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180B-3E1F-488D-A576-549D9A29B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ác chỉ điểm tiên đoán nguy cơ huyết khối hay nguy cơ cao dẫn đến NMCT cần chụp ĐMV khẩn cấp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457200" y="6095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au thắt ngực tái diễn hoặc kéo d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 thay đổi tự nhiên (chênh lên hay sụp xuống &gt; 0,1 m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 sụp xuống sâu từ V2- V4, chứng tỏ TMCB xuyên thành vùng sau diễn tiế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yết động không ổn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ạn nhịp thất nặ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0524-4CAF-48DA-9BCC-7EC3A0DBE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Dịch tễ học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ần suất mới mắc HC ĐMVC/KSTC &gt; HC ĐMVC/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 ĐMVC/KSTC nhập viện: 3/1000 dân s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ử vong trong bệnh viện HC ĐMVC/STC &gt; HC ĐMVC/KST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ử vong vào tháng thứ 6: tương đồng giữa 2 thể bệnh (12% so với 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ào năm thứ tư, tử vong HC ĐMVC/KSTC &gt; 2 HC ĐMVC/ST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L: Bassand JP et al. ESC Guidelines for the diagnosis and treatment of non ST segment elevation acute coronary syndrome. June 1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2BC4-D54B-4058-B5D6-20FF5370B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huyến cáo tái thông ĐMV/ HC ĐMV – KSTC 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09480" y="658332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80880" y="990720"/>
          <a:ext cx="8458200" cy="5327640"/>
        </p:xfrm>
        <a:graphic>
          <a:graphicData uri="http://schemas.openxmlformats.org/drawingml/2006/table">
            <a:tbl>
              <a:tblPr/>
              <a:tblGrid>
                <a:gridCol w="5867640"/>
                <a:gridCol w="1218960"/>
                <a:gridCol w="13716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ỉ đị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thiệp ĐMV ở bệnh nhâ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ỉ số GRACE &gt; 140 hoặc có ít nhất một nguy cơ c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ệu chứng cơ năng tái diễ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CB trên trắc nghiệm gắng sứ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thiệp sớm ĐMV (&lt; 24 giờ) ở bệnh nhâ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ỉ số GRACE &gt; 140 hoặ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iều tiêu chuẩn nguy cơ c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thiệp muộn ĐMV (trong vòng 72 giờ) ở bệnh nhâ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ỉ số GRACE &lt; 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ặ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ông có nhiều tiêu chuẩn nguy cơ cao nhưng có triệu chứng cơ năng tái diễn hoặc TMCB trên trắc nghiệm gắng sứ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nguy cơ TMCB rất cao (đau thắt ngực kháng trị kèm suy tim, loạn nhịp hay huyết động không ổn): Can thiệp khẩn cấp (&lt; 2 giờ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ông can thiệp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uy cơ thấ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uy cơ chụp mạch hay can thiệp c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63CA-10C2-4887-B7EE-4293B67F3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ảng tính điểm chỉ số GRACE(1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64468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Granger C B et al. Arch Intern Med 2003; 163: 2345-23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E338-B822-458E-AF6E-DC231490D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8307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62485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: Granger C B et al. Arch Intern Med 2003; 163: 2345-2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ảng tính điểm chỉ số GRACE (2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69EA-1192-4079-84C7-6C8748407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huyến cáo phòng ngừa bệnh thận do chất cản quang 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28600" y="655308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295280"/>
          <a:ext cx="8229600" cy="4907160"/>
        </p:xfrm>
        <a:graphic>
          <a:graphicData uri="http://schemas.openxmlformats.org/drawingml/2006/table">
            <a:tbl>
              <a:tblPr/>
              <a:tblGrid>
                <a:gridCol w="3429000"/>
                <a:gridCol w="2895480"/>
                <a:gridCol w="898560"/>
                <a:gridCol w="1006560"/>
              </a:tblGrid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iều tr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ều lượ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16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ất cả bệnh nhân bệnh thận m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iều trị nội tối ưu (statin, chẹn beta, UCMC hoặc chẹn thụ thể AG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 chỉ định lâm sà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yền NaCl 9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L/kg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thể sử dụng N- Acetylcyste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-120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yền Natri Bicarbonate 0,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16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có bệnh thận mạn từ nhẹ, vừa đến nặ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ử dụng cản quang LOCM hoặc IO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350 mL hoặc &lt; 4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bệnh thận mạn nặ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lọc máu phòng ngừa 6 giờ trước can thiệp ĐM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ận tốc thay thế dịch 1000 ml/giờ, không làm giảm cân và ứ muối, tiếp tục 24 giờ sau thủ thuậ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ông lọc thận nhằm mục tiêu phòng ngừ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212" name="Text Box 147"/>
          <p:cNvSpPr/>
          <p:nvPr/>
        </p:nvSpPr>
        <p:spPr>
          <a:xfrm>
            <a:off x="457200" y="624852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M: Low osmolar contrast med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CM: Iso osmolar contrast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1240-F7F0-4D12-AE65-64B2BE704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huyến cáo điều trị đối với bệnh nhân bệnh thận mạn nhẹ đến nặng vừa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808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600200"/>
          <a:ext cx="8229600" cy="3984480"/>
        </p:xfrm>
        <a:graphic>
          <a:graphicData uri="http://schemas.openxmlformats.org/drawingml/2006/table">
            <a:tbl>
              <a:tblPr/>
              <a:tblGrid>
                <a:gridCol w="5943600"/>
                <a:gridCol w="1066680"/>
                <a:gridCol w="1219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BCĐMV hơn là nong ĐMV khi tổn thương phù hợp; nguy cơ cho b/n và khả năng sống chấp nhận đượ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BCĐMV không tuần hoàn ngoài cơ th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sử dụng stent phủ thuốc thay vì stent trần với bệnh nhân can thiệp ĐM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DE52-9F2C-4AB5-BA68-83DAD7D07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Khuyến cáo điều trị bệnh nhân suy tim cấp do NMCT cấp (1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33520" y="62485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981080"/>
          <a:ext cx="8229600" cy="2301840"/>
        </p:xfrm>
        <a:graphic>
          <a:graphicData uri="http://schemas.openxmlformats.org/drawingml/2006/table">
            <a:tbl>
              <a:tblPr/>
              <a:tblGrid>
                <a:gridCol w="6172200"/>
                <a:gridCol w="990720"/>
                <a:gridCol w="1066680"/>
              </a:tblGrid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NMCTC –KSTC hoặc NMCTC-STC có huyết động không ổn cần can thiệp ng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ỉ định tái lưu thông ĐMV ngay khi b/n suy tim cấp kèm TMCB diễn tiế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ần siêu âm tim khảo sát chức năng thất trái và loại trừ biến chứng cơ học của NM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8632-2884-4300-927B-B714A08F9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Khuyến cáo điều trị bệnh nhân suy tim cấp do NMCT cấp (2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981080"/>
          <a:ext cx="8229600" cy="3276720"/>
        </p:xfrm>
        <a:graphic>
          <a:graphicData uri="http://schemas.openxmlformats.org/drawingml/2006/table">
            <a:tbl>
              <a:tblPr/>
              <a:tblGrid>
                <a:gridCol w="6172200"/>
                <a:gridCol w="990720"/>
                <a:gridCol w="10666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sốc tim cần tái lưu thông ĐMV ngay bằng can thiệp hay BCĐ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ặt bóng dội ngược nội ĐMC  các b/n có huyết động không ổn định (đặc biệt sốc tim hay biến chứng cơ họ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ẫu thuật ngay b/n biến chứng cơ học NMCT có huyết động xấu dần dù đặt bóng nội Đ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ẫu thuật tối khẩn b/n can thiệp hoặc đặt bóng không thành công kèm huyết động không ổn định hoặc loạn nhịp thất đe dọa tính mạ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70"/>
          <p:cNvSpPr/>
          <p:nvPr/>
        </p:nvSpPr>
        <p:spPr>
          <a:xfrm>
            <a:off x="533520" y="632448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037D-09EC-4D92-9D60-C39A923DC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huyến cáo điều trị b/n suy tim mạn và rối loạn chức năng tâm thu TTr (PXTM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≤ 35%) có biến chứng đau thắt ngực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533520" y="65833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1905120"/>
          <a:ext cx="8229600" cy="4039920"/>
        </p:xfrm>
        <a:graphic>
          <a:graphicData uri="http://schemas.openxmlformats.org/drawingml/2006/table">
            <a:tbl>
              <a:tblPr/>
              <a:tblGrid>
                <a:gridCol w="5638680"/>
                <a:gridCol w="1295640"/>
                <a:gridCol w="1295280"/>
              </a:tblGrid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1534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ĐMV nế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ẹp thân chung có ý nghĩ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ơng đương thân chung (phần gần 2 nhánh LTT và nhánh mũ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BCĐMV kèm tái tạo thất trái nếu chỉ số TTr cuối TT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60 ml/m2 và sẹo ở vùng do nhánh LTT nuô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nong ĐMV nếu tổn thương phù hợp và cơ tim còn số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229" name="Text Box 49"/>
          <p:cNvSpPr/>
          <p:nvPr/>
        </p:nvSpPr>
        <p:spPr>
          <a:xfrm>
            <a:off x="609480" y="5943600"/>
            <a:ext cx="7620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ĐMV: phẫu thuật bắc cầu động mạch vàn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T: liên thất trướ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4275-1878-46B7-A135-D1721C1BE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457200" y="6248520"/>
            <a:ext cx="762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Điều trị chống huyết khối/can thiệp ĐMV/ NMCTC- KSTC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76520"/>
          <a:ext cx="8229600" cy="4008240"/>
        </p:xfrm>
        <a:graphic>
          <a:graphicData uri="http://schemas.openxmlformats.org/drawingml/2006/table">
            <a:tbl>
              <a:tblPr/>
              <a:tblGrid>
                <a:gridCol w="2208240"/>
                <a:gridCol w="4419720"/>
                <a:gridCol w="765000"/>
                <a:gridCol w="836640"/>
              </a:tblGrid>
              <a:tr h="370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CTC- KS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ống kết tập tiểu cầ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pidogrel (with 600 mg loading dose as soon as possib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pidogrel (for 9-12 months after P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sugrel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cagrelor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GPIIb –IIIa antagonists (in patients with evidence of high intracoronary thrombus bur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4" name="Text Box 317"/>
          <p:cNvSpPr/>
          <p:nvPr/>
        </p:nvSpPr>
        <p:spPr>
          <a:xfrm>
            <a:off x="533520" y="58672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cagrelor: non-thienopyridine  ADP receptor blo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3E8D-5786-4E5F-B6D2-90BD86B6F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1447920"/>
          <a:ext cx="8229600" cy="4794120"/>
        </p:xfrm>
        <a:graphic>
          <a:graphicData uri="http://schemas.openxmlformats.org/drawingml/2006/table">
            <a:tbl>
              <a:tblPr/>
              <a:tblGrid>
                <a:gridCol w="2182680"/>
                <a:gridCol w="4451400"/>
                <a:gridCol w="755640"/>
                <a:gridCol w="839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iximab (with DAP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rofiban, Epcifibat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tream GPIIb- IIIa antagon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ng đô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high-risk of ischaemia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H (+ GPIIb- IIIa antagonists) 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valirudin (monotherap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to high risk of ischaemia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valirud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aparinu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oxapar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risk of ischaemia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aparinu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oxapar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Điều trị chống huyết khối/can thiệp ĐMV/ NMCTC- KSTC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8" name="Text Box 76"/>
          <p:cNvSpPr/>
          <p:nvPr/>
        </p:nvSpPr>
        <p:spPr>
          <a:xfrm>
            <a:off x="457200" y="6400800"/>
            <a:ext cx="762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0A15-5E05-47D6-B048-E02588638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Sinh lý bệnh</a:t>
            </a:r>
            <a:endParaRPr b="0" lang="en-US" sz="4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ảng xơ vữa dễ tổn thương (the vulnerable pla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yết khối ĐMV (coronary thrombo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ệnh nhân dễ tổn thương (the vulnerable pati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e sites of plaque ru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ous systemic markers of inflam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agulation system 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ối loạn chức năng dãn mạch của nội mạ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ác cơ chế thứ cấp làm tăng nhu cầu oxy cơ tim (td: sốt, cường giáp, stress, tăng hoạt giao cảm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AAF2-7564-4256-B0B2-FC83DB893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huyến cáo sử dụng thuốc chống huyết khối/ bệnh thận mạn (1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4810" t="16470" r="7371" b="36682"/>
          <a:stretch/>
        </p:blipFill>
        <p:spPr>
          <a:xfrm>
            <a:off x="1066680" y="1828800"/>
            <a:ext cx="6858000" cy="3740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14400" y="5867280"/>
            <a:ext cx="716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BC88-E6B4-444C-8536-210173CB2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huyến cáo sử dụng thuốc chống huyết khối/ bệnh thận mạn (2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4942" t="16349" r="7408" b="0"/>
          <a:stretch/>
        </p:blipFill>
        <p:spPr>
          <a:xfrm>
            <a:off x="1981080" y="1523880"/>
            <a:ext cx="5410440" cy="4418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762120" y="60199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CBF7-78C3-4E80-BBED-59192214C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Qui trình chỉ định loại I và loại IIa trong xử trí ban đầu HCĐMVC- KSTC (1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5790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: Wright RS et al. 2011 ACCF/AHA Focus up date of Guideline for the management of patients with unstable Angina/ Non ST Elevation Myocardial Infareter(Updating the 2007 Guideline)JACC vol 57, 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 2011, May 3, 2011: 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rcRect l="0" t="0" r="0" b="63044"/>
          <a:stretch/>
        </p:blipFill>
        <p:spPr>
          <a:xfrm>
            <a:off x="228600" y="2133720"/>
            <a:ext cx="8610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4055-089F-444E-8A1D-75E951BCC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Qui trình chỉ định loại I và loại IIa trong xử trí ban đầu HCĐMVC- KSTC (2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right RS et al. 2011 ACCF/AHA Focus up date of Guideline for the management of patients with unstable Angina/ Non ST Elevation Myocardial Infareter(Updating the 2007 Guideline)JACC vol 57, No18 2011, May 3, 2011: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rcRect l="0" t="33827" r="0" b="0"/>
          <a:stretch/>
        </p:blipFill>
        <p:spPr>
          <a:xfrm>
            <a:off x="457200" y="1676520"/>
            <a:ext cx="83059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9EAD-03FA-4940-83CE-888F76324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ăm sóc lâu dài sau tái lưu thông ĐMV (1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80880" y="65833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990720"/>
          <a:ext cx="8229600" cy="4681440"/>
        </p:xfrm>
        <a:graphic>
          <a:graphicData uri="http://schemas.openxmlformats.org/drawingml/2006/table">
            <a:tbl>
              <a:tblPr/>
              <a:tblGrid>
                <a:gridCol w="6248520"/>
                <a:gridCol w="106668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ử trí lâu dài dựa vào lượng giá nguy cơ, bao gồm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m lâm sà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 cận lâm sàng khá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A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ức vận động thể lực và T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êu âm tim trước và sau BCĐM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êu âm tim trước và sau nong ĐM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uyến khích tập thể dục 30-60 phút/ngà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ương trình tập thể dục có kiểm soát/ b/n nguy cơ cao (TD: mới tái lưu thông ĐMV, suy ti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Giảm cân, BMI &lt; 25kg/m2, vòng bụng &lt; 94 cm ở nam, &lt; 80cm/n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ỗi lần thăm khám, cần khảo sát BMI và vòng bụ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uyến cáo sử dụng thực phẩm ít thịt, m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CB7B-84AF-48B9-9C50-478206501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ăm sóc lâu dài sau tái lưu thông ĐMV (2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80880" y="65833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rcRect l="0" t="78325" r="0" b="0"/>
          <a:stretch/>
        </p:blipFill>
        <p:spPr>
          <a:xfrm>
            <a:off x="457200" y="5486400"/>
            <a:ext cx="8229600" cy="10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457200" y="914400"/>
          <a:ext cx="8229600" cy="4567320"/>
        </p:xfrm>
        <a:graphic>
          <a:graphicData uri="http://schemas.openxmlformats.org/drawingml/2006/table">
            <a:tbl>
              <a:tblPr/>
              <a:tblGrid>
                <a:gridCol w="6477120"/>
                <a:gridCol w="838080"/>
                <a:gridCol w="91440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hay đổi lối số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ục tiêu LDL-C &lt; 100 mg/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nguy cơ cao, mục tiêu LDL-C &lt; 70 mg/ngà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ử dụng omega-3 dưới dạng dầu c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y đổi lối sống và sử dụng thuốc để huyết áp &lt; 130/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hẹn beta và UCMC: thuốc đầu tiê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ng thuốc lá nhắc mỗi lần khá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ĐTĐ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A1C &lt; 6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ảm tối đa các YTNC khá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ểm tra tâm lý bệnh nhân xem có trầm cả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ủng ngừa cúm mỗi nă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212B-235B-480D-8AFA-C3A108885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Điều trị bằng thuốc lâu dài sau tái tưới máu cơ tim (1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80880" y="6216480"/>
            <a:ext cx="77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600200"/>
          <a:ext cx="8229600" cy="4179960"/>
        </p:xfrm>
        <a:graphic>
          <a:graphicData uri="http://schemas.openxmlformats.org/drawingml/2006/table">
            <a:tbl>
              <a:tblPr/>
              <a:tblGrid>
                <a:gridCol w="6248520"/>
                <a:gridCol w="914400"/>
                <a:gridCol w="1066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MC liên tục trên b/n có PXTM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 40% và cho b/n có THA, ĐTĐ hoặc bệnh thận mạn (trừ phi có chống chỉ địn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MC cho tất cả b/n, trừ phi có chống chỉ địn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ẹn thụ thể AG II/bệnh nhân không dung nạp UCMC và có suy tim hoặc NMCT kèm PXTM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 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ẹn thụ thể AG II/tất cả bệnh nhân không dung nạp UC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A2BC-892F-4335-8CFE-0E762B78C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334120" y="579132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Điều trị bằng thuốc lâu dài sau tái tưới máu cơ tim (2)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1"/>
          <a:srcRect l="0" t="72505" r="5089" b="0"/>
          <a:stretch/>
        </p:blipFill>
        <p:spPr>
          <a:xfrm>
            <a:off x="457200" y="5029200"/>
            <a:ext cx="449568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457200" y="1600200"/>
          <a:ext cx="8229600" cy="3430440"/>
        </p:xfrm>
        <a:graphic>
          <a:graphicData uri="http://schemas.openxmlformats.org/drawingml/2006/table">
            <a:tbl>
              <a:tblPr/>
              <a:tblGrid>
                <a:gridCol w="6248520"/>
                <a:gridCol w="914400"/>
                <a:gridCol w="106668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ẹn beta cho tất cả b/n sau NMCT hoặc HCĐMVC hoặc rối loạn chức năng thất trái (trừ phi có CCĐ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ốc giảm lipid máu liều cao/tất cả bệnh nhân bất kể mức lipid (trừ phi có CCĐ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sử dụng fibrates và omega-3 (1g/ngày)phối hợp với statin hoặc ở b/n không dung nạp được stat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n nhắc sử dụng niacin nhằm tăng HDL-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46B9-D8DD-4A38-B854-1C2C2C918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iến lược theo dõi và xử trí b/n không triệu chứng cơ năng sau tái tưới máu cơ tim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457200" y="6340320"/>
            <a:ext cx="739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600200"/>
          <a:ext cx="8229600" cy="3903840"/>
        </p:xfrm>
        <a:graphic>
          <a:graphicData uri="http://schemas.openxmlformats.org/drawingml/2006/table">
            <a:tbl>
              <a:tblPr/>
              <a:tblGrid>
                <a:gridCol w="6248520"/>
                <a:gridCol w="914400"/>
                <a:gridCol w="1066680"/>
              </a:tblGrid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NGS hình ảnh (siêu âm, xạ ký) cần được thực hiện thay vì ECG gắng sứ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nguy cơ thấp: tối ưu điều trị nội kèm thay đổi lối số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 nguy cơ trung bình hay cao: chụp ĐM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NGS hình ảnh cần được thực hiện sớm/nhóm b/n đặc biệ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GS thường quy cần cân nhắc sau nong ĐMV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2 năm và sau BCĐMV ≥ 5 nă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277" name="Text Box 37"/>
          <p:cNvSpPr/>
          <p:nvPr/>
        </p:nvSpPr>
        <p:spPr>
          <a:xfrm>
            <a:off x="533520" y="5638680"/>
            <a:ext cx="83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uy cơ thấp: TMCB/ gắng sức với công cao, khởi đầu TMCB muộn, 1 vùng TM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uy cơ trung bình hay cao: TMCB/gắng sức công thấp; nhiều vùng TM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ACC2-9582-421C-904B-1F9BFC219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ác bệnh nhân đặc biệt cần khảo sát  TNGS bằng hình ảnh sớm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762120" y="6583320"/>
            <a:ext cx="761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200" y="1905120"/>
            <a:ext cx="8305920" cy="4111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ất cả b/n ST chênh sau can thiệp hoặc BCĐMV tối khẩn cần khảo sát trước ra viện hoặc rất sớm sau ra v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ệnh nhân có nghề nghiệp cần an toàn cao (TD: phi công, tài xế…)hoặc vận động viê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ử dụng thuốc ức chế 5 –phosphodiesterase (sildenafil, tadalafil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ệnh nhân đột tử được cứu số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ệnh nhân tái lưu thông ĐMV không hoàn to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ệnh nhân có biến chứng khi can thiệp (bóc tách, NMCT chu phẫu, gỡ bỏ nội mạc khi BCĐMV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ệnh nhân ĐT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ệnh nhiều nhánh ĐMV kèm tổn thương còn sót lại hoặc TMCT yên lặ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DD74-1927-4FDB-8BED-5915C74C0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Mảnh xơ vữa ổn định so với mảng xơ vữa không ổn định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7012-54DA-4E05-8FA4-6ADADE01C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iến lược theo dõi và xử trí bệnh nhân có triệu chứng cơ năng sau tái tưới máu cơ tim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09480" y="60199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1600200"/>
          <a:ext cx="8229600" cy="3786120"/>
        </p:xfrm>
        <a:graphic>
          <a:graphicData uri="http://schemas.openxmlformats.org/drawingml/2006/table">
            <a:tbl>
              <a:tblPr/>
              <a:tblGrid>
                <a:gridCol w="6248520"/>
                <a:gridCol w="914400"/>
                <a:gridCol w="1066680"/>
              </a:tblGrid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ạ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NGS hình ảnh (siêu âm, xạ ký) cần được sử dụng thay vì TNGS/EC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ần tối ưu điều trị nội kèm thay đổi lối sống/TNGS nguy cơ thấ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ần chụp ĐMV khi TNGS nguy cơ trung bình đến c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ụp ĐMV khẩn cấp/bệnh nhân NMCTC-S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ến lược can thiệp sớm/NMCTC-KSTC nguy cơ c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76FD-2F04-491F-8F0F-C9457BD0F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Qui trình xử trí tiền phẫu bệnh nhân đang sử dụng 2 kết tập tiểu cầu/cần phẫu thuật tim hoặc ngoài tim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685800" y="640080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: Wijns W et al. ESC/ EACTS Guidelines on Myocardial revascularization. Eur. Heart J 2010; 31: 2501-2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5"/>
          <p:cNvGrpSpPr/>
          <p:nvPr/>
        </p:nvGrpSpPr>
        <p:grpSpPr>
          <a:xfrm>
            <a:off x="1523880" y="1295280"/>
            <a:ext cx="7162920" cy="4419720"/>
            <a:chOff x="1523880" y="1295280"/>
            <a:chExt cx="7162920" cy="4419720"/>
          </a:xfrm>
        </p:grpSpPr>
        <p:sp>
          <p:nvSpPr>
            <p:cNvPr id="290" name="Text Box 10"/>
            <p:cNvSpPr/>
            <p:nvPr/>
          </p:nvSpPr>
          <p:spPr>
            <a:xfrm>
              <a:off x="2590920" y="1295280"/>
              <a:ext cx="457200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ẫu thuật tim/hoặc ngoài ti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1905120" y="2057400"/>
              <a:ext cx="1143000" cy="337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ối khẩ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3429000" y="2057400"/>
              <a:ext cx="2438280" cy="337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hẩn cấp và bán cấ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6705720" y="2057400"/>
              <a:ext cx="1523880" cy="337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ương trìn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1523880" y="2743200"/>
              <a:ext cx="1676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ẫu thuậ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3581280" y="2666880"/>
              <a:ext cx="2210040" cy="58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yết định theo từng trường hợ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6324480" y="2666880"/>
              <a:ext cx="2362320" cy="58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ờ tới khi ngưng chế độ 2 kết nạp tiểu cầ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7"/>
            <p:cNvSpPr/>
            <p:nvPr/>
          </p:nvSpPr>
          <p:spPr>
            <a:xfrm>
              <a:off x="2133720" y="3581280"/>
              <a:ext cx="5105160" cy="2133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4724280" y="3657600"/>
              <a:ext cx="243864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ếp tục Aspirin + clopidogr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ếp tục aspirin ngưng clopidogr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gưng aspirin ngưng clopidogr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20"/>
            <p:cNvSpPr/>
            <p:nvPr/>
          </p:nvSpPr>
          <p:spPr>
            <a:xfrm>
              <a:off x="3276720" y="3886200"/>
              <a:ext cx="1447560" cy="14479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1"/>
            <p:cNvSpPr/>
            <p:nvPr/>
          </p:nvSpPr>
          <p:spPr>
            <a:xfrm>
              <a:off x="3581280" y="48006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guy cơ xuất huyế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23"/>
            <p:cNvSpPr/>
            <p:nvPr/>
          </p:nvSpPr>
          <p:spPr>
            <a:xfrm rot="10800000">
              <a:off x="2514600" y="3886200"/>
              <a:ext cx="1295280" cy="1447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2"/>
            <p:cNvSpPr/>
            <p:nvPr/>
          </p:nvSpPr>
          <p:spPr>
            <a:xfrm>
              <a:off x="2514600" y="396252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guy cơ huyết khố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Line 26"/>
          <p:cNvSpPr/>
          <p:nvPr/>
        </p:nvSpPr>
        <p:spPr>
          <a:xfrm>
            <a:off x="27432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7"/>
          <p:cNvSpPr/>
          <p:nvPr/>
        </p:nvSpPr>
        <p:spPr>
          <a:xfrm>
            <a:off x="48006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8"/>
          <p:cNvSpPr/>
          <p:nvPr/>
        </p:nvSpPr>
        <p:spPr>
          <a:xfrm>
            <a:off x="701028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9"/>
          <p:cNvSpPr/>
          <p:nvPr/>
        </p:nvSpPr>
        <p:spPr>
          <a:xfrm>
            <a:off x="2743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48006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1"/>
          <p:cNvSpPr/>
          <p:nvPr/>
        </p:nvSpPr>
        <p:spPr>
          <a:xfrm>
            <a:off x="70102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48006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8C8D-D75A-48E1-B7C2-EFA7D7DE6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Kết luận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ẩn đoán và lượng định HCĐMVC-KSTC: lâm sàng, cận lâm sàng, chỉ điểm sinh học, thang điểm TIMI,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ống kết tập tiểu cầu (aspirin, clopidogrel, prasugrel; ticagrelor, ức chế thụ thể GP 2b, 3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iều trị chống đô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parin, fondaparinux (ức chế Xa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Ức chế trực tiếp thrombin; thuốc kháng Vit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i tưới máu cơ tim: PCI hoặc BCĐ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iều trị lâu dài sau NMCT:rất quan tr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C128-ED4B-459C-B179-9F6D63B8D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ương quan giữa YTNC, rối loạn chức năng nội mạc, viêm với hội chứng ĐMVC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04920" y="6599160"/>
            <a:ext cx="822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400800" cy="4870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6553080" y="3200400"/>
            <a:ext cx="259092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FKB= nuclear factor Kappa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= angiotensin converting enz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P1= monocyte chemoattractant protein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P= C- type natriceretic pep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CAM= vascular cell adhesion nuk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GF= peatelet derived growth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0E79-D946-44AD-B27F-4A37E5078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iểu hiện lâm sàng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au thắt ngực lúc nghỉ kéo dài (&gt; 20 phút):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au thắt ngực nặng (CCS III) mới khởi ph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au thắt ngực ổn định, nay nặng hơn (cơn xuất hiện gia tăng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t nhất CCS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au thắt ngực sau NM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L: Van Domburg RT et al. J Am Coll Cardiol 1998; 31: 1534 - 1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8229600" y="2209680"/>
            <a:ext cx="304920" cy="106704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4582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1D06-8AA2-4EE2-85B1-93EDB2CE0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ác phương tiện chẩn đoán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ám thực th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G – ECG gắng sức – Holter E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chất chỉ điểm sinh học (Biomark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êu âm tim và phương tiện hình ảnh không xâm nhập khác (xạ ký cơ tim, M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ụp ĐMV có cản qu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5437-95FE-487B-9657-607928F7A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ác đặc điểm giúp nghĩ đau ngực là do nghẽn ĐMV (1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04920" y="6294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L: De Lemos JA et al. Hurt’s The Heart,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 2011, McGraw-Hill. p. 1328-13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rcRect l="4714" t="13559" r="11324" b="61397"/>
          <a:stretch/>
        </p:blipFill>
        <p:spPr>
          <a:xfrm>
            <a:off x="1066680" y="2057400"/>
            <a:ext cx="67820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8:00:45Z</dcterms:created>
  <dc:creator>THU</dc:creator>
  <dc:description/>
  <dc:language>en-US</dc:language>
  <cp:lastModifiedBy>Bao Thu</cp:lastModifiedBy>
  <dcterms:modified xsi:type="dcterms:W3CDTF">2013-09-16T03:02:00Z</dcterms:modified>
  <cp:revision>34</cp:revision>
  <dc:subject/>
  <dc:title>CẬP NHẬT 2011 VỀ ĐIỀU TRỊ HỘI CHỨNG ĐỘNG MẠCH VÀNH CẤP KHÔNG ST CHÊNH LÊN</dc:title>
</cp:coreProperties>
</file>