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0.png" ContentType="image/pn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0C50-367F-4F4C-9863-46477FA04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035D-0111-488B-87C7-7B74842CD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B29E-517B-4720-90E4-3F4FECB38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8FAB-C9BA-4795-B3E5-61EE5383D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FA03-24AB-4AFC-8609-9E7F69336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9C60-D677-4E33-8197-DB76955AD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B3B0-B464-4AC3-A51A-5CAAB5B94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EFE6-36CC-45BF-9C8D-1408D560F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3A44-267C-4C41-94F0-7A2B3196A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0687-246B-4DDD-93C4-B65990318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D6F1-7E7A-4C42-9106-85769ABEC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09C1-A1B6-4DDC-9E73-C56198995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7D79-E214-40B1-B749-2E682BAB0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987A-BFC3-4080-B068-1E034BD1F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FD7F-E1C0-474B-AA0B-D2B94BEFE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2DEA-5627-4391-95C3-49BC682E4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B3F7-F64D-412B-A283-940267C15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74C5-D933-4911-B8CC-FD483CEE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C3AA-FA6F-41DC-BF09-25DBF5FB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F58E-E137-4094-93DE-192CDBB3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44D2-C79D-450E-B674-C4870032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192D-1B52-4E30-9053-09E91E5B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D5C1-8C64-4072-92B2-E634A090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3A84-0947-4AED-92A6-634FFB15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DA7A-05D8-49AF-B670-1CDAB03E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3D42-0283-477E-96F1-BC2DB435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6246-E9C2-4691-AD16-8C9E543E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287E-9B81-4A60-A1D4-C0A53D26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61C1-5827-44ED-9A19-06928269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4D5D-2994-4770-98FB-1801BE5F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C9E7-191D-47DD-812A-EAF53001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81A6-01AF-42E9-9119-38EA7220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ED88-3371-4FE6-9043-7CF616C8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9704-31A2-4377-B0C9-0912CA4C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39D3-1F59-40F6-A042-A07DB449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4800-F547-4880-8FFE-2D7DB516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53F7-AF70-4DBF-833C-6A0B9DB4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03D1-E47A-4EA5-90BD-C5F763CE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FB86-5DE6-4F2F-82CA-A4752A9E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16D7-BF50-4FB4-A9BF-732302E1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7D2F-A41F-4E88-8217-FDE8314D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0AA6-9390-4C8C-AE3E-9CD7E594E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0" y="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Cđ và đt hội chứng ĐMV cấp không ST chênh lê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C6E4-9C01-4733-A0BD-8CC41FA06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F0A7-E8EB-4AB5-A4D0-BFFD91AA9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534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HẨN ĐOÁN VÀ ĐIỀU TRỊ HỘI CHỨNG ĐMV CẤP KHÔNG ST CHÊNH LÊN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GS.TS. Phạm Nguyễn Vi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Đại học Y Khoa Phạm Ngọc Thạ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ệnh viện Tim Tâm Đứ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ện Tim Tp.H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BDD3-9CC4-4C33-9E8B-947FEC112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ác đặc điểm giúp nghĩ đau ngực là do nghẽn ĐMV (2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80880" y="6172200"/>
            <a:ext cx="82296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L: De Lemos JA et al. Hurt’s The Heart, 1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d 2011, McGraw-Hill. p. 1328-13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1"/>
          <a:srcRect l="4279" t="37638" r="5128" b="27590"/>
          <a:stretch/>
        </p:blipFill>
        <p:spPr>
          <a:xfrm>
            <a:off x="609480" y="1752480"/>
            <a:ext cx="76964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6876-78A8-4427-85AD-6266F11B7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ác đặc điểm giúp nghĩ đau ngực là do nghẽn ĐMV (3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304920" y="6523200"/>
            <a:ext cx="82296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L: De Lemos JA et al. Hurt’s The Heart, 1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d 2011, McGraw-Hill. p. 1328-13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rcRect l="2984" t="71399" r="4476" b="4971"/>
          <a:stretch/>
        </p:blipFill>
        <p:spPr>
          <a:xfrm>
            <a:off x="533520" y="2133720"/>
            <a:ext cx="830556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4736-7533-40AB-9012-DAFDE5130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ECG/ b/n HCĐMVC, đau thắt ngực lúc nghỉ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04920" y="629460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L: De Lemos JA et al. Hurt’s The Heart, 1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d 2011, McGraw-Hill. p. 1328-13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38188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D319-3C6E-47AF-B89F-0D3BB1120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hóng thích chất chỉ điểm tổn thương cơ tim ở HC ĐMVC/KSTC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38" name="Picture 3" descr="f2"/>
          <p:cNvPicPr/>
          <p:nvPr/>
        </p:nvPicPr>
        <p:blipFill>
          <a:blip r:embed="rId1"/>
          <a:stretch/>
        </p:blipFill>
        <p:spPr>
          <a:xfrm>
            <a:off x="990720" y="1447920"/>
            <a:ext cx="7386480" cy="47084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0" y="6216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TL: Bassand JP et al. ESC Guidelines for the diagnosis and treatment of non ST segment elevation acute coronary syndrome. June 14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8A21-9122-47AD-800D-C71D14EB6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Lượng định nguy cơ CĐTNKOĐ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543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uy cơ cao: tái lưu thông ĐMV ng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uy cơ trung bình: TLTĐMV trong vòng 72 gi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uy cơ thấp: điều trị nội kh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1780-9CF9-4A09-A357-02D3179FB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VNI-Helve-Condense"/>
              </a:rPr>
              <a:t>Thang ñieåm nguy cô TIMI/ hoäi chöùng ÑMV caáp khoâng ST cheânh leâ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457200" y="6400800"/>
            <a:ext cx="82296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L: De Lemos JA et al. Hurt’s The Heart, 1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d 2011, McGraw-Hill. p. 1328-13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1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79246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1B31-317C-4358-A342-FE431AF2F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Khuyến cáo về chẩn đoán và khảo sát nguy cơ HCĐMVC/KSTC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ện pháp phối hợp: lâm sàng, ECG, chất chỉ điểm sinh học, CLS khác, chỉ số nguy c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G 12 CĐ: thực hiện trong vòng 10 phút (I.C); đo thêm V3R, V4R, V7 – V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Đo lại ECG khi có triệu chứng cơ năng, hoặc 6 – 12 giờ sau (I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Đo CTnT hoặc CTnI – lập lại 6 – 12 giờ sau nếu lần đầu âm (I-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hảo sát nguy cơ ngay (I.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êu âm tim: giúp chẩn đoán (+) và chẩn đoán phân biệt (I-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NGS trước khi xuất viện nếu b/n không còn đau thắt ngực, ECG bình thường, troponin (-) (I-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L: Bassand JP et al. ESC Guidelines for the diagnosis and treatment of non ST segment elevation acute coronary syndrome. June 14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FBB3-DF96-4399-8B04-00154C6AD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ác biện pháp điều trị cấp thời HCĐMVC/KSTC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iều trị chống TMCB: chẹn bêta, nitrates, ức chế calci (nhóm non-DHP), nicorand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iều trị chống đ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ống kết tập tiểu cầ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ái lưu thông ĐM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F8EE-E97C-422E-8623-95C6FF99C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o sánh hiệu quả điều trị can thiệp với điều trị không can thiệp b/n HC ĐMVC/KSTC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61722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: Cannon CP et al. N. Engl J Med 2001; 344: 1879-18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16292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C6F4-9230-4E65-9415-9D04D4E6B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o sánh giữa can thiệp sớm với can thiệp muộn/ bệnh nhân HCĐMVC- KSTC 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(tử vong, NMCT, đột quỵ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61722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: Mehta SR et al.N Engl J Med 2009; 288: 1851-18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6960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0904-424D-4C65-B2E0-2C609E737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ác định nghĩa và sinh lý bệnh hội chứng động mạch vành cấp (HCĐMVC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04920" y="6523200"/>
            <a:ext cx="82296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L: De Lemos JA et al. Hurt’s The Heart, 1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d 2011, McGraw-Hill. p. 1328-13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24852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049D-7F8E-404B-BBBB-D450F0EAE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Điều trị ban đầu HCĐMVC/KSTC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63" name="Picture 4" descr="t11"/>
          <p:cNvPicPr/>
          <p:nvPr/>
        </p:nvPicPr>
        <p:blipFill>
          <a:blip r:embed="rId1">
            <a:lum contrast="48000"/>
          </a:blip>
          <a:srcRect l="0" t="1162" r="0" b="70821"/>
          <a:stretch/>
        </p:blipFill>
        <p:spPr>
          <a:xfrm>
            <a:off x="0" y="1600200"/>
            <a:ext cx="4572000" cy="18432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152280" y="487692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TL: Bassand JP et al. ESC Guidelines for the diagnosis and treatment of non ST segment elevation acute coronary syndrome. June 14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t11"/>
          <p:cNvPicPr/>
          <p:nvPr/>
        </p:nvPicPr>
        <p:blipFill>
          <a:blip r:embed="rId2">
            <a:lum contrast="48000"/>
          </a:blip>
          <a:srcRect l="0" t="28798" r="0" b="2481"/>
          <a:stretch/>
        </p:blipFill>
        <p:spPr>
          <a:xfrm>
            <a:off x="4572000" y="1569960"/>
            <a:ext cx="44956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E0B1-3505-47F0-8030-7A71AC324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Khuyến cáo sử dụng thuốc chống TMCB trên b/n HCĐMVC/KSTC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ẹn bêta (I-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ates giúp giảm triệu chứng đau thắt ngực (I-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Ức chế calci, kết hợp với chẹn bêta và nitrate. Hữu ích ở b/n có CCĐ chẹn bêta (I-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fedipine hoặc các DHPs khác, không được dùng, trừ phi phối hợp với chẹn bê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L: Bassand JP et al. ESC Guidelines for the diagnosis and treatment of non ST segment elevation acute coronary syndrome. June 14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3B75-F53C-4281-8858-4B95C2964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ác thuốc chống đông/ HCĐMVC/KSTC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parin không phân đoạn (TT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parin TLPT thấp (TD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daparinux (TDD): ức chế yếu tố X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ác chất ức chế trực tiếp thrombin (TTM): hirudin, bivalirudin, argatro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ốc đối kháng vit K (uống): warfarin, acenocouma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9495-5A6E-4EC1-8393-E4FE9E896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Fondaparinux: chất ức chế yếu tố Xa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tasaccharide tổng hợp, T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h khả dụng 100%, bán hủy 17 gi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ống chỉ định: độ thanh thải creatinine &lt; 30ml/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ều dùng HCĐMV cấp: liều cố định 2,5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3CBB-D3E1-4693-A93F-59A6160ED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Nghiên cứu OASIS - 5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sánh, ngẫu nhiên; 20078 b/n NMCTC/KS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óm fondaparinux 2,5mg/ngày t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óm enoxaparin 1mg/kg x2/ngày t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ối đa 8 ngà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êu chí: tử vong , NMCT , đột quỵ ( 5,4% enoxaparine so với 5,3% fondaparinux , p=0,89)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êu chí gộp : tử vong , NMCT, đột quỵ , xuất huyết nặng ( 9,5% enoxaparine so với 7,3% fondaparinux p=0,035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L: Yusuf S et al. N. Engl J Med 2006; 354: 1464 - 14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FF7B-C81F-4810-AE85-5E0B1CC1A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ác chất ức chế trực tiếp thrombin</a:t>
            </a: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(DTI = Direct Thrombin Inhibitors)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rud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valirud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atro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Thrombin = yếu tố I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I: ức chế thrombin, do đó ngăn cản fibrinogen -&gt; fib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F867-B918-4E2F-AC11-E7E68470B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Thuốc chống kết tập tiểu cầu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i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enopyridin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iclopi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lopidogr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asugr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agre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Ức chế thụ thể glycoprotein IIB/II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ác nghiên cứu lớn: CURE, CREDO, CHARISMA, TRITON-TIMI 38, PL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15F7-108C-45CB-97E6-6D9AEB55C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So sánh giữa clopidogrel với placebo trong nghiên cứu CUR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6294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: Fox KA et al. Circulation 2004; 110: 1202-1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0314-2880-47A5-B2A6-C2CAD09B4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o sánh hiệu quả điều trị các thuốc chống kết tập tiểu cầu mới với clopidogrel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04920" y="629460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L: De Lemos JA et al. Hurt’s The Heart, 1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d 2011, McGraw-Hill. p. 1328-13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>
            <a:lum bright="-18000"/>
          </a:blip>
          <a:srcRect l="3061" t="25334" r="4082" b="3732"/>
          <a:stretch/>
        </p:blipFill>
        <p:spPr>
          <a:xfrm>
            <a:off x="0" y="1523880"/>
            <a:ext cx="9144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B8C4-7FC5-42D0-B31E-4DF375383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ác chỉ điểm tiên đoán nguy cơ huyết khối hay nguy cơ cao dẫn đến NMCT cần chụp ĐMV khẩn cấp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457200" y="60958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au thắt ngực tái diễn hoặc kéo dà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 thay đổi tự nhiên (chênh lên hay sụp xuống &gt; 0,1 m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 sụp xuống sâu từ V2- V4, chứng tỏ TMCB xuyên thành vùng sau diễn tiế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yết động không ổn đị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ạn nhịp thất nặ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55C0-312B-4C96-839A-0738DEE60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Dịch tễ học</a:t>
            </a: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ần suất mới mắc HC ĐMVC/KSTC &gt; HC ĐMVC/S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 ĐMVC/KSTC nhập viện: 3/1000 dân s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ử vong trong bệnh viện HC ĐMVC/STC &gt; HC ĐMVC/KST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ử vong vào tháng thứ 6: tương đồng giữa 2 thể bệnh (12% so với 13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ào năm thứ tư, tử vong HC ĐMVC/KSTC &gt; 2 HC ĐMVC/ST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L: Bassand JP et al. ESC Guidelines for the diagnosis and treatment of non ST segment elevation acute coronary syndrome. June 14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A609-C5F4-4AFE-8639-3E0DC6E63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huyến cáo tái thông ĐMV/ HC ĐMV – KSTC 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609480" y="658332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80880" y="990720"/>
          <a:ext cx="8458200" cy="5327640"/>
        </p:xfrm>
        <a:graphic>
          <a:graphicData uri="http://schemas.openxmlformats.org/drawingml/2006/table">
            <a:tbl>
              <a:tblPr/>
              <a:tblGrid>
                <a:gridCol w="5867640"/>
                <a:gridCol w="1218960"/>
                <a:gridCol w="13716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ỉ đị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ạ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thiệp ĐMV ở bệnh nhâ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ỉ số GRACE &gt; 140 hoặc có ít nhất một nguy cơ ca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ệu chứng cơ năng tái diễ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MCB trên trắc nghiệm gắng sứ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thiệp sớm ĐMV (&lt; 24 giờ) ở bệnh nhâ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ỉ số GRACE &gt; 140 hoặ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iều tiêu chuẩn nguy cơ ca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thiệp muộn ĐMV (trong vòng 72 giờ) ở bệnh nhâ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ỉ số GRACE &lt; 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ặ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ông có nhiều tiêu chuẩn nguy cơ cao nhưng có triệu chứng cơ năng tái diễn hoặc TMCB trên trắc nghiệm gắng sứ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nhân nguy cơ TMCB rất cao (đau thắt ngực kháng trị kèm suy tim, loạn nhịp hay huyết động không ổn): Can thiệp khẩn cấp (&lt; 2 giờ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ông can thiệp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uy cơ thấ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uy cơ chụp mạch hay can thiệp ca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353F-165B-4538-8CED-E50C241A1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Bảng tính điểm chỉ số GRACE(1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64468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L: Granger C B et al. Arch Intern Med 2003; 163: 2345-23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574A-16E8-4321-A7AE-1F0D9FFD8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8307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62485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: Granger C B et al. Arch Intern Med 2003; 163: 2345-2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Bảng tính điểm chỉ số GRACE (2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3FA9-A19F-4298-B11D-B8ED36474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huyến cáo phòng ngừa bệnh thận do chất cản quang 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28600" y="6553080"/>
            <a:ext cx="89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295280"/>
          <a:ext cx="8229600" cy="4907160"/>
        </p:xfrm>
        <a:graphic>
          <a:graphicData uri="http://schemas.openxmlformats.org/drawingml/2006/table">
            <a:tbl>
              <a:tblPr/>
              <a:tblGrid>
                <a:gridCol w="3429000"/>
                <a:gridCol w="2895480"/>
                <a:gridCol w="898560"/>
                <a:gridCol w="1006560"/>
              </a:tblGrid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iều tr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ều lượ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ạ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16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ất cả bệnh nhân bệnh thận mạ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iều trị nội tối ưu (statin, chẹn beta, UCMC hoặc chẹn thụ thể AG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o chỉ định lâm sà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yền NaCl 9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L/kg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 thể sử dụng N- Acetylcyste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-120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yền Natri Bicarbonate 0,8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316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nhân có bệnh thận mạn từ nhẹ, vừa đến nặ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ử dụng cản quang LOCM hoặc IO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350 mL hoặc &lt; 4 mL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nhân bệnh thận mạn nặ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n nhắc lọc máu phòng ngừa 6 giờ trước can thiệp ĐM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ận tốc thay thế dịch 1000 ml/giờ, không làm giảm cân và ứ muối, tiếp tục 24 giờ sau thủ thuậ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ông lọc thận nhằm mục tiêu phòng ngừ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212" name="Text Box 147"/>
          <p:cNvSpPr/>
          <p:nvPr/>
        </p:nvSpPr>
        <p:spPr>
          <a:xfrm>
            <a:off x="457200" y="6248520"/>
            <a:ext cx="74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M: Low osmolar contrast medi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OCM: Iso osmolar contrast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0081-38C6-465E-96C3-2C8E91263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huyến cáo điều trị đối với bệnh nhân bệnh thận mạn nhẹ đến nặng vừa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80880" y="6400800"/>
            <a:ext cx="79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57200" y="1600200"/>
          <a:ext cx="8229600" cy="3984480"/>
        </p:xfrm>
        <a:graphic>
          <a:graphicData uri="http://schemas.openxmlformats.org/drawingml/2006/table">
            <a:tbl>
              <a:tblPr/>
              <a:tblGrid>
                <a:gridCol w="5943600"/>
                <a:gridCol w="1066680"/>
                <a:gridCol w="12193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15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ạ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15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153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n nhắc BCĐMV hơn là nong ĐMV khi tổn thương phù hợp; nguy cơ cho b/n và khả năng sống chấp nhận đượ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12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n nhắc BCĐMV không tuần hoàn ngoài cơ th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n nhắc sử dụng stent phủ thuốc thay vì stent trần với bệnh nhân can thiệp ĐM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B31E-1DA8-4672-8A91-6C11E606D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Khuyến cáo điều trị bệnh nhân suy tim cấp do NMCT cấp (1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533520" y="6248520"/>
            <a:ext cx="80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57200" y="1981080"/>
          <a:ext cx="8229600" cy="2301840"/>
        </p:xfrm>
        <a:graphic>
          <a:graphicData uri="http://schemas.openxmlformats.org/drawingml/2006/table">
            <a:tbl>
              <a:tblPr/>
              <a:tblGrid>
                <a:gridCol w="6172200"/>
                <a:gridCol w="990720"/>
                <a:gridCol w="1066680"/>
              </a:tblGrid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15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ạ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15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153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nhân NMCTC –KSTC hoặc NMCTC-STC có huyết động không ổn cần can thiệp ng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ỉ định tái lưu thông ĐMV ngay khi b/n suy tim cấp kèm TMCB diễn tiế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ần siêu âm tim khảo sát chức năng thất trái và loại trừ biến chứng cơ học của NM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C144-ADB6-48EC-BADE-67D62CA57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Khuyến cáo điều trị bệnh nhân suy tim cấp do NMCT cấp (2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57200" y="1981080"/>
          <a:ext cx="8229600" cy="3276720"/>
        </p:xfrm>
        <a:graphic>
          <a:graphicData uri="http://schemas.openxmlformats.org/drawingml/2006/table">
            <a:tbl>
              <a:tblPr/>
              <a:tblGrid>
                <a:gridCol w="6172200"/>
                <a:gridCol w="990720"/>
                <a:gridCol w="10666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nhân sốc tim cần tái lưu thông ĐMV ngay bằng can thiệp hay BCĐM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ặt bóng dội ngược nội ĐMC  các b/n có huyết động không ổn định (đặc biệt sốc tim hay biến chứng cơ họ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ẫu thuật ngay b/n biến chứng cơ học NMCT có huyết động xấu dần dù đặt bóng nội Đ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ẫu thuật tối khẩn b/n can thiệp hoặc đặt bóng không thành công kèm huyết động không ổn định hoặc loạn nhịp thất đe dọa tính mạ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224" name="Text Box 70"/>
          <p:cNvSpPr/>
          <p:nvPr/>
        </p:nvSpPr>
        <p:spPr>
          <a:xfrm>
            <a:off x="533520" y="6324480"/>
            <a:ext cx="80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5280-53D7-4BCF-857C-1660AAAC0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huyến cáo điều trị b/n suy tim mạn và rối loạn chức năng tâm thu TTr (PXTM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≤ 35%) có biến chứng đau thắt ngực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533520" y="6583320"/>
            <a:ext cx="80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57200" y="1905120"/>
          <a:ext cx="8229600" cy="4039920"/>
        </p:xfrm>
        <a:graphic>
          <a:graphicData uri="http://schemas.openxmlformats.org/drawingml/2006/table">
            <a:tbl>
              <a:tblPr/>
              <a:tblGrid>
                <a:gridCol w="5638680"/>
                <a:gridCol w="1295640"/>
                <a:gridCol w="1295280"/>
              </a:tblGrid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15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ạ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15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1534"/>
                    </a:solidFill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ĐMV nế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ẹp thân chung có ý nghĩ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ương đương thân chung (phần gần 2 nhánh LTT và nhánh mũ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12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n nhắc BCĐMV kèm tái tạo thất trái nếu chỉ số TTr cuối TTh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60 ml/m2 và sẹo ở vùng do nhánh LTT nuô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n nhắc nong ĐMV nếu tổn thương phù hợp và cơ tim còn số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229" name="Text Box 49"/>
          <p:cNvSpPr/>
          <p:nvPr/>
        </p:nvSpPr>
        <p:spPr>
          <a:xfrm>
            <a:off x="609480" y="5943600"/>
            <a:ext cx="7620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ĐMV: phẫu thuật bắc cầu động mạch vàn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T: liên thất trướ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5BE2-6F62-4C96-ADF1-8184EA1E7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457200" y="6248520"/>
            <a:ext cx="762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Điều trị chống huyết khối/can thiệp ĐMV/ NMCTC- KSTC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1676520"/>
          <a:ext cx="8229600" cy="4008240"/>
        </p:xfrm>
        <a:graphic>
          <a:graphicData uri="http://schemas.openxmlformats.org/drawingml/2006/table">
            <a:tbl>
              <a:tblPr/>
              <a:tblGrid>
                <a:gridCol w="2208240"/>
                <a:gridCol w="4419720"/>
                <a:gridCol w="765000"/>
                <a:gridCol w="836640"/>
              </a:tblGrid>
              <a:tr h="3708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CTC- KST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ống kết tập tiểu cầ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pidogrel (with 600 mg loading dose as soon as possib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pidogrel (for 9-12 months after PC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sugrel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cagrelor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GPIIb –IIIa antagonists (in patients with evidence of high intracoronary thrombus bur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34" name="Text Box 317"/>
          <p:cNvSpPr/>
          <p:nvPr/>
        </p:nvSpPr>
        <p:spPr>
          <a:xfrm>
            <a:off x="533520" y="5867280"/>
            <a:ext cx="64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cagrelor: non-thienopyridine  ADP receptor blo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66B6-6E7C-4A3A-8E80-8936EF4C0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57200" y="1447920"/>
          <a:ext cx="8229600" cy="4794120"/>
        </p:xfrm>
        <a:graphic>
          <a:graphicData uri="http://schemas.openxmlformats.org/drawingml/2006/table">
            <a:tbl>
              <a:tblPr/>
              <a:tblGrid>
                <a:gridCol w="2182680"/>
                <a:gridCol w="4451400"/>
                <a:gridCol w="755640"/>
                <a:gridCol w="839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ciximab (with DAP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rofiban, Epcifibat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tream GPIIb- IIIa antagoni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áng đô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high-risk of ischaemia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FH (+ GPIIb- IIIa antagonists) 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valirudin (monotherap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 to high risk of ischaemia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F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valirud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daparinu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oxapar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risk of ischaemia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daparinu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oxapar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Điều trị chống huyết khối/can thiệp ĐMV/ NMCTC- KSTC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8" name="Text Box 76"/>
          <p:cNvSpPr/>
          <p:nvPr/>
        </p:nvSpPr>
        <p:spPr>
          <a:xfrm>
            <a:off x="457200" y="6400800"/>
            <a:ext cx="762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0342-9BBE-42A1-A360-6EFB48CB7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Arial"/>
              </a:rPr>
              <a:t>Sinh lý bệnh</a:t>
            </a:r>
            <a:endParaRPr b="0" lang="en-US" sz="4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ảng xơ vữa dễ tổn thương (the vulnerable plaq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yết khối ĐMV (coronary thrombo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ệnh nhân dễ tổn thương (the vulnerable pati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ultiple sites of plaque ru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ous systemic markers of inflam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agulation system ac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ối loạn chức năng dãn mạch của nội mạ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ác cơ chế thứ cấp làm tăng nhu cầu oxy cơ tim (td: sốt, cường giáp, stress, tăng hoạt giao cảm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2D46-8C4A-4561-80E1-659D05874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huyến cáo sử dụng thuốc chống huyết khối/ bệnh thận mạn (1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rcRect l="4810" t="16470" r="7371" b="36682"/>
          <a:stretch/>
        </p:blipFill>
        <p:spPr>
          <a:xfrm>
            <a:off x="1066680" y="1828800"/>
            <a:ext cx="6858000" cy="37400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914400" y="5867280"/>
            <a:ext cx="716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7117-C824-40B6-9CF3-CB4F7A5C6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huyến cáo sử dụng thuốc chống huyết khối/ bệnh thận mạn (2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rcRect l="4942" t="16349" r="7408" b="0"/>
          <a:stretch/>
        </p:blipFill>
        <p:spPr>
          <a:xfrm>
            <a:off x="1981080" y="1523880"/>
            <a:ext cx="5410440" cy="44182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5"/>
          <p:cNvSpPr/>
          <p:nvPr/>
        </p:nvSpPr>
        <p:spPr>
          <a:xfrm>
            <a:off x="762120" y="601992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63E0-077B-468A-BC4B-5E8E4DFAC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Qui trình chỉ định loại I và loại IIa trong xử trí ban đầu HCĐMVC- KSTC (1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5790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L: Wright RS et al. 2011 ACCF/AHA Focus up date of Guideline for the management of patients with unstable Angina/ Non ST Elevation Myocardial Infareter(Updating the 2007 Guideline)JACC vol 57, N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 2011, May 3, 2011: 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rcRect l="0" t="0" r="0" b="63044"/>
          <a:stretch/>
        </p:blipFill>
        <p:spPr>
          <a:xfrm>
            <a:off x="228600" y="2133720"/>
            <a:ext cx="86104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58B7-6186-44A7-ABFA-732D7B9E1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Qui trình chỉ định loại I và loại IIa trong xử trí ban đầu HCĐMVC- KSTC (2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: Wright RS et al. 2011 ACCF/AHA Focus up date of Guideline for the management of patients with unstable Angina/ Non ST Elevation Myocardial Infareter(Updating the 2007 Guideline)JACC vol 57, No18 2011, May 3, 2011: 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"/>
          <p:cNvPicPr/>
          <p:nvPr/>
        </p:nvPicPr>
        <p:blipFill>
          <a:blip r:embed="rId1"/>
          <a:srcRect l="0" t="33827" r="0" b="0"/>
          <a:stretch/>
        </p:blipFill>
        <p:spPr>
          <a:xfrm>
            <a:off x="457200" y="1676520"/>
            <a:ext cx="830592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639F-AC29-4000-91BC-E0FD659B1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hăm sóc lâu dài sau tái lưu thông ĐMV (1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80880" y="6583320"/>
            <a:ext cx="79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57200" y="990720"/>
          <a:ext cx="8229600" cy="4681440"/>
        </p:xfrm>
        <a:graphic>
          <a:graphicData uri="http://schemas.openxmlformats.org/drawingml/2006/table">
            <a:tbl>
              <a:tblPr/>
              <a:tblGrid>
                <a:gridCol w="6248520"/>
                <a:gridCol w="1066680"/>
                <a:gridCol w="914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ạ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1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ử trí lâu dài dựa vào lượng giá nguy cơ, bao gồm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ám lâm sà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N cận lâm sàng khá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bA1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ức vận động thể lực và T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êu âm tim trước và sau BCĐM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êu âm tim trước và sau nong ĐM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uyến khích tập thể dục 30-60 phút/ngà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ương trình tập thể dục có kiểm soát/ b/n nguy cơ cao (TD: mới tái lưu thông ĐMV, suy ti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Giảm cân, BMI &lt; 25kg/m2, vòng bụng &lt; 94 cm ở nam, &lt; 80cm/n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ỗi lần thăm khám, cần khảo sát BMI và vòng bụ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uyến cáo sử dụng thực phẩm ít thịt, m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5F89-CFF8-4FFB-82F7-5BE61AFAF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hăm sóc lâu dài sau tái lưu thông ĐMV (2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380880" y="6583320"/>
            <a:ext cx="80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rcRect l="0" t="78325" r="0" b="0"/>
          <a:stretch/>
        </p:blipFill>
        <p:spPr>
          <a:xfrm>
            <a:off x="457200" y="5486400"/>
            <a:ext cx="8229600" cy="10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3" name=""/>
          <p:cNvGraphicFramePr/>
          <p:nvPr/>
        </p:nvGraphicFramePr>
        <p:xfrm>
          <a:off x="457200" y="914400"/>
          <a:ext cx="8229600" cy="4567320"/>
        </p:xfrm>
        <a:graphic>
          <a:graphicData uri="http://schemas.openxmlformats.org/drawingml/2006/table">
            <a:tbl>
              <a:tblPr/>
              <a:tblGrid>
                <a:gridCol w="6477120"/>
                <a:gridCol w="838080"/>
                <a:gridCol w="914400"/>
              </a:tblGrid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ạ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05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Thay đổi lối số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ục tiêu LDL-C &lt; 100 mg/d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nhân nguy cơ cao, mục tiêu LDL-C &lt; 70 mg/ngà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ử dụng omega-3 dưới dạng dầu c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y đổi lối sống và sử dụng thuốc để huyết áp &lt; 130/8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H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hẹn beta và UCMC: thuốc đầu tiê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ưng thuốc lá nhắc mỗi lần khá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nhân ĐTĐ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bA1C &lt; 6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ảm tối đa các YTNC khá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ểm tra tâm lý bệnh nhân xem có trầm cả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ủng ngừa cúm mỗi nă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D46E-3CE3-424C-8DE9-19F187D3D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Điều trị bằng thuốc lâu dài sau tái tưới máu cơ tim (1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80880" y="6216480"/>
            <a:ext cx="777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57200" y="1600200"/>
          <a:ext cx="8229600" cy="4179960"/>
        </p:xfrm>
        <a:graphic>
          <a:graphicData uri="http://schemas.openxmlformats.org/drawingml/2006/table">
            <a:tbl>
              <a:tblPr/>
              <a:tblGrid>
                <a:gridCol w="6248520"/>
                <a:gridCol w="914400"/>
                <a:gridCol w="10666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ạ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CMC liên tục trên b/n có PXTM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≤ 40% và cho b/n có THA, ĐTĐ hoặc bệnh thận mạn (trừ phi có chống chỉ địn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90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CMC cho tất cả b/n, trừ phi có chống chỉ địn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ẹn thụ thể AG II/bệnh nhân không dung nạp UCMC và có suy tim hoặc NMCT kèm PXTM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≤ 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ẹn thụ thể AG II/tất cả bệnh nhân không dung nạp UC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AB09-9727-40B3-B36D-D0318CDE3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5334120" y="5791320"/>
            <a:ext cx="266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Điều trị bằng thuốc lâu dài sau tái tưới máu cơ tim (2)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71" name="Picture 7" descr=""/>
          <p:cNvPicPr/>
          <p:nvPr/>
        </p:nvPicPr>
        <p:blipFill>
          <a:blip r:embed="rId1"/>
          <a:srcRect l="0" t="72505" r="5089" b="0"/>
          <a:stretch/>
        </p:blipFill>
        <p:spPr>
          <a:xfrm>
            <a:off x="457200" y="5029200"/>
            <a:ext cx="449568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"/>
          <p:cNvGraphicFramePr/>
          <p:nvPr/>
        </p:nvGraphicFramePr>
        <p:xfrm>
          <a:off x="457200" y="1600200"/>
          <a:ext cx="8229600" cy="3430440"/>
        </p:xfrm>
        <a:graphic>
          <a:graphicData uri="http://schemas.openxmlformats.org/drawingml/2006/table">
            <a:tbl>
              <a:tblPr/>
              <a:tblGrid>
                <a:gridCol w="6248520"/>
                <a:gridCol w="914400"/>
                <a:gridCol w="106668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ạ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ẹn beta cho tất cả b/n sau NMCT hoặc HCĐMVC hoặc rối loạn chức năng thất trái (trừ phi có CCĐ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ốc giảm lipid máu liều cao/tất cả bệnh nhân bất kể mức lipid (trừ phi có CCĐ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n nhắc sử dụng fibrates và omega-3 (1g/ngày)phối hợp với statin hoặc ở b/n không dung nạp được stat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n nhắc sử dụng niacin nhằm tăng HDL-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DFA9-817A-4850-A390-D59D4612D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hiến lược theo dõi và xử trí b/n không triệu chứng cơ năng sau tái tưới máu cơ tim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457200" y="6340320"/>
            <a:ext cx="739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57200" y="1600200"/>
          <a:ext cx="8229600" cy="3903840"/>
        </p:xfrm>
        <a:graphic>
          <a:graphicData uri="http://schemas.openxmlformats.org/drawingml/2006/table">
            <a:tbl>
              <a:tblPr/>
              <a:tblGrid>
                <a:gridCol w="6248520"/>
                <a:gridCol w="914400"/>
                <a:gridCol w="1066680"/>
              </a:tblGrid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ạ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NGS hình ảnh (siêu âm, xạ ký) cần được thực hiện thay vì ECG gắng sứ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nhân nguy cơ thấp: tối ưu điều trị nội kèm thay đổi lối số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nhân nguy cơ trung bình hay cao: chụp ĐM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76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NGS hình ảnh cần được thực hiện sớm/nhóm b/n đặc biệ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NGS thường quy cần cân nhắc sau nong ĐMV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2 năm và sau BCĐMV ≥ 5 nă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277" name="Text Box 37"/>
          <p:cNvSpPr/>
          <p:nvPr/>
        </p:nvSpPr>
        <p:spPr>
          <a:xfrm>
            <a:off x="533520" y="5638680"/>
            <a:ext cx="8305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guy cơ thấp: TMCB/ gắng sức với công cao, khởi đầu TMCB muộn, 1 vùng TM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guy cơ trung bình hay cao: TMCB/gắng sức công thấp; nhiều vùng TM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D70A-FE32-47CA-AEA1-04DFFE87D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ác bệnh nhân đặc biệt cần khảo sát  TNGS bằng hình ảnh sớm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762120" y="6583320"/>
            <a:ext cx="761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457200" y="1905120"/>
            <a:ext cx="8305920" cy="4111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ất cả b/n ST chênh sau can thiệp hoặc BCĐMV tối khẩn cần khảo sát trước ra viện hoặc rất sớm sau ra việ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ệnh nhân có nghề nghiệp cần an toàn cao (TD: phi công, tài xế…)hoặc vận động viê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ử dụng thuốc ức chế 5 –phosphodiesterase (sildenafil, tadalafil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ệnh nhân đột tử được cứu số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ệnh nhân tái lưu thông ĐMV không hoàn to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ệnh nhân có biến chứng khi can thiệp (bóc tách, NMCT chu phẫu, gỡ bỏ nội mạc khi BCĐMV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ệnh nhân ĐT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ệnh nhiều nhánh ĐMV kèm tổn thương còn sót lại hoặc TMCT yên lặ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BCF8-061A-481E-9651-40A80816C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Mảnh xơ vữa ổn định so với mảng xơ vữa không ổn định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6294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L: De Lemos JA et al. Hurt’s The Heart, 1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d 2011, McGraw-Hill. p. 1328-13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1976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048B-29B4-454B-9AD5-33F19D283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hiến lược theo dõi và xử trí bệnh nhân có triệu chứng cơ năng sau tái tưới máu cơ tim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09480" y="60199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57200" y="1600200"/>
          <a:ext cx="8229600" cy="3786120"/>
        </p:xfrm>
        <a:graphic>
          <a:graphicData uri="http://schemas.openxmlformats.org/drawingml/2006/table">
            <a:tbl>
              <a:tblPr/>
              <a:tblGrid>
                <a:gridCol w="6248520"/>
                <a:gridCol w="914400"/>
                <a:gridCol w="1066680"/>
              </a:tblGrid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ạ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NGS hình ảnh (siêu âm, xạ ký) cần được sử dụng thay vì TNGS/EC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ần tối ưu điều trị nội kèm thay đổi lối sống/TNGS nguy cơ thấ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ần chụp ĐMV khi TNGS nguy cơ trung bình đến c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ụp ĐMV khẩn cấp/bệnh nhân NMCTC-S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ến lược can thiệp sớm/NMCTC-KSTC nguy cơ c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17C5-E33E-4D03-9419-76195F000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Qui trình xử trí tiền phẫu bệnh nhân đang sử dụng 2 kết tập tiểu cầu/cần phẫu thuật tim hoặc ngoài tim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685800" y="6400800"/>
            <a:ext cx="78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25"/>
          <p:cNvGrpSpPr/>
          <p:nvPr/>
        </p:nvGrpSpPr>
        <p:grpSpPr>
          <a:xfrm>
            <a:off x="1523880" y="1295280"/>
            <a:ext cx="7162920" cy="4419720"/>
            <a:chOff x="1523880" y="1295280"/>
            <a:chExt cx="7162920" cy="4419720"/>
          </a:xfrm>
        </p:grpSpPr>
        <p:sp>
          <p:nvSpPr>
            <p:cNvPr id="290" name="Text Box 10"/>
            <p:cNvSpPr/>
            <p:nvPr/>
          </p:nvSpPr>
          <p:spPr>
            <a:xfrm>
              <a:off x="2590920" y="1295280"/>
              <a:ext cx="457200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hẫu thuật tim/hoặc ngoài ti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1905120" y="2057400"/>
              <a:ext cx="1143000" cy="3373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ối khẩ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2"/>
            <p:cNvSpPr/>
            <p:nvPr/>
          </p:nvSpPr>
          <p:spPr>
            <a:xfrm>
              <a:off x="3429000" y="2057400"/>
              <a:ext cx="2438280" cy="3373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Khẩn cấp và bán cấ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3"/>
            <p:cNvSpPr/>
            <p:nvPr/>
          </p:nvSpPr>
          <p:spPr>
            <a:xfrm>
              <a:off x="6705720" y="2057400"/>
              <a:ext cx="1523880" cy="3373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ương trìn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4"/>
            <p:cNvSpPr/>
            <p:nvPr/>
          </p:nvSpPr>
          <p:spPr>
            <a:xfrm>
              <a:off x="1523880" y="2743200"/>
              <a:ext cx="167652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hẫu thuậ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5"/>
            <p:cNvSpPr/>
            <p:nvPr/>
          </p:nvSpPr>
          <p:spPr>
            <a:xfrm>
              <a:off x="3581280" y="2666880"/>
              <a:ext cx="2210040" cy="580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yết định theo từng trường hợ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16"/>
            <p:cNvSpPr/>
            <p:nvPr/>
          </p:nvSpPr>
          <p:spPr>
            <a:xfrm>
              <a:off x="6324480" y="2666880"/>
              <a:ext cx="2362320" cy="580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ờ tới khi ngưng chế độ 2 kết nạp tiểu cầ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7"/>
            <p:cNvSpPr/>
            <p:nvPr/>
          </p:nvSpPr>
          <p:spPr>
            <a:xfrm>
              <a:off x="2133720" y="3581280"/>
              <a:ext cx="5105160" cy="2133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18"/>
            <p:cNvSpPr/>
            <p:nvPr/>
          </p:nvSpPr>
          <p:spPr>
            <a:xfrm>
              <a:off x="4724280" y="3657600"/>
              <a:ext cx="243864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ếp tục Aspirin + clopidogr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ếp tục aspirin ngưng clopidogr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gưng aspirin ngưng clopidogr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20"/>
            <p:cNvSpPr/>
            <p:nvPr/>
          </p:nvSpPr>
          <p:spPr>
            <a:xfrm>
              <a:off x="3276720" y="3886200"/>
              <a:ext cx="1447560" cy="14479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21"/>
            <p:cNvSpPr/>
            <p:nvPr/>
          </p:nvSpPr>
          <p:spPr>
            <a:xfrm>
              <a:off x="3581280" y="480060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guy cơ xuất huyế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23"/>
            <p:cNvSpPr/>
            <p:nvPr/>
          </p:nvSpPr>
          <p:spPr>
            <a:xfrm rot="10800000">
              <a:off x="2514600" y="3886200"/>
              <a:ext cx="1295280" cy="14479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22"/>
            <p:cNvSpPr/>
            <p:nvPr/>
          </p:nvSpPr>
          <p:spPr>
            <a:xfrm>
              <a:off x="2514600" y="3962520"/>
              <a:ext cx="114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guy cơ huyết khố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Line 26"/>
          <p:cNvSpPr/>
          <p:nvPr/>
        </p:nvSpPr>
        <p:spPr>
          <a:xfrm>
            <a:off x="274320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7"/>
          <p:cNvSpPr/>
          <p:nvPr/>
        </p:nvSpPr>
        <p:spPr>
          <a:xfrm>
            <a:off x="480060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8"/>
          <p:cNvSpPr/>
          <p:nvPr/>
        </p:nvSpPr>
        <p:spPr>
          <a:xfrm>
            <a:off x="701028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9"/>
          <p:cNvSpPr/>
          <p:nvPr/>
        </p:nvSpPr>
        <p:spPr>
          <a:xfrm>
            <a:off x="27432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0"/>
          <p:cNvSpPr/>
          <p:nvPr/>
        </p:nvSpPr>
        <p:spPr>
          <a:xfrm>
            <a:off x="480060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1"/>
          <p:cNvSpPr/>
          <p:nvPr/>
        </p:nvSpPr>
        <p:spPr>
          <a:xfrm>
            <a:off x="701028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2"/>
          <p:cNvSpPr/>
          <p:nvPr/>
        </p:nvSpPr>
        <p:spPr>
          <a:xfrm>
            <a:off x="480060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EBB3-9026-4889-AF1D-0F5F75AB2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Kết luận</a:t>
            </a:r>
            <a:endParaRPr b="0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ẩn đoán và lượng định HCĐMVC-KSTC: lâm sàng, cận lâm sàng, chỉ điểm sinh học, thang điểm TIMI, 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ống kết tập tiểu cầu (aspirin, clopidogrel, prasugrel; ticagrelor, ức chế thụ thể GP 2b, 3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iều trị chống đô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parin, fondaparinux (ức chế Xa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Ức chế trực tiếp thrombin; thuốc kháng Vit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ái tưới máu cơ tim: PCI hoặc BCĐM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iều trị lâu dài sau NMCT:rất quan trọ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7B96-93B6-49D1-BABA-67AD8B076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ương quan giữa YTNC, rối loạn chức năng nội mạc, viêm với hội chứng ĐMVC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04920" y="6599160"/>
            <a:ext cx="82296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L: De Lemos JA et al. Hurt’s The Heart, 1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d 2011, McGraw-Hill. p. 1328-13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6400800" cy="48704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6553080" y="3200400"/>
            <a:ext cx="259092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FKB= nuclear factor Kappa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= angiotensin converting enz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P1= monocyte chemoattractant protein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NP= C- type natriceretic pep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CAM= vascular cell adhesion nuk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GF= peatelet derived growth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4EE9-80D0-41BE-A93B-79FEBEC32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Biểu hiện lâm sàng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Đau thắt ngực lúc nghỉ kéo dài (&gt; 20 phút): 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Đau thắt ngực nặng (CCS III) mới khởi ph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Đau thắt ngực ổn định, nay nặng hơn (cơn xuất hiện gia tăng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ít nhất CCS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Đau thắt ngực sau NM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L: Van Domburg RT et al. J Am Coll Cardiol 1998; 31: 1534 - 15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8229600" y="2209680"/>
            <a:ext cx="304920" cy="106704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84582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260A-72E4-4683-9D86-FA4E514FB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ác phương tiện chẩn đoán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ám thực th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G – ECG gắng sức – Holter EC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ác chất chỉ điểm sinh học (Biomark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êu âm tim và phương tiện hình ảnh không xâm nhập khác (xạ ký cơ tim, MR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ụp ĐMV có cản qu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9D6E-23E3-4CBE-B04C-EDEB0502B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ác đặc điểm giúp nghĩ đau ngực là do nghẽn ĐMV (1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04920" y="629460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L: De Lemos JA et al. Hurt’s The Heart, 1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d 2011, McGraw-Hill. p. 1328-13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1"/>
          <a:srcRect l="4714" t="13559" r="11324" b="61397"/>
          <a:stretch/>
        </p:blipFill>
        <p:spPr>
          <a:xfrm>
            <a:off x="1066680" y="2057400"/>
            <a:ext cx="678204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8:00:45Z</dcterms:created>
  <dc:creator>THU</dc:creator>
  <dc:description/>
  <dc:language>en-US</dc:language>
  <cp:lastModifiedBy>Bao Thu</cp:lastModifiedBy>
  <dcterms:modified xsi:type="dcterms:W3CDTF">2013-09-16T03:02:00Z</dcterms:modified>
  <cp:revision>34</cp:revision>
  <dc:subject/>
  <dc:title>CẬP NHẬT 2011 VỀ ĐIỀU TRỊ HỘI CHỨNG ĐỘNG MẠCH VÀNH CẤP KHÔNG ST CHÊNH LÊN</dc:title>
</cp:coreProperties>
</file>