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Marco%20Borsato%20-%20Opa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C9E-B32D-4871-B3E6-790D15C8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FCE-A088-421D-9BDF-496B0E6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D52-E868-4B15-8DD0-CA4957B5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243-5067-4C09-BED6-76DD934C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AAF-C1E2-41EC-A966-FCD0A70B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8E0-AF05-4F7E-8826-2678850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30C-9E58-44FB-B97D-51B5DDAB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852-E166-4CC8-949D-9ED04DA5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CF2-8020-41C1-952B-0BCC7D6E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3E4-3B11-499F-BB31-3C717C80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35C-B0E8-47EA-825F-5E4870E0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345-A711-464D-8394-02A2CE97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DA3D-F8CD-412A-A7F3-DD00A75E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Marco%20Borsato%20-%20Op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hyperlink" Target="http://www.frank-gea.nl/" TargetMode="External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1052640"/>
            <a:ext cx="367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m,n Opa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/>
          <p:nvPr/>
        </p:nvSpPr>
        <p:spPr>
          <a:xfrm>
            <a:off x="3380760" y="5769000"/>
            <a:ext cx="61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Monotype Corsiva"/>
              </a:rPr>
              <a:t>Powerpoint van Gea en 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920" y="1341360"/>
            <a:ext cx="9048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Vroeger zat ik uren op de stoel bij Op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hij vertelde me dan altijd een verha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Of we gingen samen naar de golven kijken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de mensen kenden m,n Opa allema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69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51280" y="4581360"/>
            <a:ext cx="1380960" cy="1838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933840" y="836640"/>
            <a:ext cx="1150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Ja ik weet nog hoe we konden blijven lachen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om een hondje dat daar speelde op het str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dat zomaar naar de golven ging staan blaff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wou vechten met een weggewaaide kr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63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424720" cy="6048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258120" y="1690560"/>
            <a:ext cx="1040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zo liepen we vaak zonder wat te zegg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lange einden heel gezellig hand in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dan keek ik om en zag m,n kleine voeten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naast m,n Opa’s grote stappen in het zand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432080"/>
            <a:ext cx="89647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Maar nu loop ik in m,n eentje want m,n Opa loopt nie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en ik breng m,n kleine tranen naar die hele grote z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Ik zie nog m,n Opa liggen als een stille witte ko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Opa sloot voorgoed zijn ogen en hij slaat ze nooit meer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Maar nu loop ik in m,n eentje want m,n Opa loopt nie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en ik breng m,n kleine tranen naar die hele grote z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Ik zie nog m,n Opa liggen als een stille witte ko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Opa sloot voorgoed zijn ogen en hij slaat ze nooit meer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416160" y="1700280"/>
            <a:ext cx="9800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Duizend golven spoelen over  Opa's stap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het zijn alleen mijn eigen voeten die daar 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Maar ik ken nog zijn verhalen en zijn grap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ik weet nog wat ik met hem heb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zo is Opa toch een beetje blijven le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want herinneringen raak je nooit meer kwi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hij heeft me zoveel goede raad gege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dus hij blijft gewoon mijn Opa voor altij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900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8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121760" y="1546200"/>
            <a:ext cx="1040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zo liepen we vaak zonder wat te zegg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lange einden heel gezellig hand in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dan keek ik om en zag m,n kleine voeten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naast m,n Opa’s grote stappen in het z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907920"/>
            <a:ext cx="889308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Maar nu loop ik in m,n eentje want m,n Opa loopt nie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en ik breng m,n kleine tranen naar die hele grote z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Ik zie nog m,n Opa liggen als een stille witte ko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Opa sloot voorgoed zijn ogen en hij slaat ze nooit meer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Maar nu loop ik in m,n eentje want m,n Opa loopt nie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en ik breng m,n kleine tranen naar die hele grote z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Ik zie nog m,n Opa liggen als een stille witte ko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Opa sloot voorgoed zijn ogen en hij slaat ze nooit meer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9548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6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1880" y="2023920"/>
            <a:ext cx="631332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Bezoek ook eens onz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3"/>
              </a:rPr>
              <a:t>www.frank-gea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4400" y="5013360"/>
            <a:ext cx="5465880" cy="64260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Groetjes  Gea en Fran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15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0:06:27Z</dcterms:created>
  <dc:creator>Gea</dc:creator>
  <dc:description/>
  <dc:language>en-US</dc:language>
  <cp:lastModifiedBy>Smets</cp:lastModifiedBy>
  <dcterms:modified xsi:type="dcterms:W3CDTF">2010-02-20T07:54:55Z</dcterms:modified>
  <cp:revision>6</cp:revision>
  <dc:subject/>
  <dc:title>Dia 1</dc:title>
</cp:coreProperties>
</file>