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Marco%20Borsato%20-%20Opa.wav" ContentType="audio/x-wav"/>
  <Override PartName="/ppt/media/image5.jpeg" ContentType="image/jpeg"/>
  <Override PartName="/ppt/media/image2.jpeg" ContentType="image/jpeg"/>
  <Override PartName="/ppt/media/image3.jpeg" ContentType="image/jpeg"/>
  <Override PartName="/ppt/media/image4.gif" ContentType="image/gif"/>
  <Override PartName="/ppt/media/image6.jpeg" ContentType="image/jpeg"/>
  <Override PartName="/ppt/media/image7.jpeg" ContentType="image/jpeg"/>
  <Override PartName="/ppt/media/image8.gif" ContentType="image/gif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9CFC-8BA3-4C3B-A1A3-59AF7380CE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E336E-7BF6-4C9D-BC2A-709C9D32D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E4F9-F653-43EA-8425-3CCBD33340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DB932-7D1C-4CF4-B6CA-0A7356F847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C2377-EA19-443F-844E-F79335F3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AF7BD-C6A8-4BC3-B1D3-AFB2E56EE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B8F0-E4F7-4E82-9323-1A28245B6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3485-5B91-42ED-A253-4C92D7150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0894-7621-40EC-A323-3F36CB6D0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34CC7-6027-48D9-81C8-5BC92CC9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8F5F-C704-41EC-8F0C-584594422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DBC4-83BD-4FA7-B9BC-083B9C1762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F4A98-F550-4A36-AFF1-D2C83A5406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../media/Marco%20Borsato%20-%20Opa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8.gif"/><Relationship Id="rId3" Type="http://schemas.openxmlformats.org/officeDocument/2006/relationships/hyperlink" Target="http://www.frank-gea.nl/" TargetMode="External"/><Relationship Id="rId4" Type="http://schemas.openxmlformats.org/officeDocument/2006/relationships/image" Target="../media/image9.gif"/><Relationship Id="rId5" Type="http://schemas.openxmlformats.org/officeDocument/2006/relationships/image" Target="../media/image9.gif"/><Relationship Id="rId6" Type="http://schemas.openxmlformats.org/officeDocument/2006/relationships/image" Target="../media/image10.gif"/><Relationship Id="rId7" Type="http://schemas.openxmlformats.org/officeDocument/2006/relationships/image" Target="../media/image10.gi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340000" y="1052640"/>
            <a:ext cx="367200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m,n Opa</a:t>
            </a:r>
            <a:endParaRPr b="1" lang="en-US" sz="7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" name=""/>
          <p:cNvSpPr/>
          <p:nvPr/>
        </p:nvSpPr>
        <p:spPr>
          <a:xfrm>
            <a:off x="3380760" y="5769000"/>
            <a:ext cx="616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333399"/>
                </a:solidFill>
                <a:latin typeface="Monotype Corsiva"/>
              </a:rPr>
              <a:t>Powerpoint van Gea en Fran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3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24000" y="189000"/>
            <a:ext cx="8569080" cy="640872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77920" y="1341360"/>
            <a:ext cx="90489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Vroeger zat ik uren op de stoel bij Opa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hij vertelde me dan altijd een verha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Of we gingen samen naar de golven kijken 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en de mensen kenden m,n Opa allema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5000">
    <p:zoom dir="in"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69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51280" y="4581360"/>
            <a:ext cx="1380960" cy="18385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-933840" y="836640"/>
            <a:ext cx="1150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Ja ik weet nog hoe we konden blijven lachen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om een hondje dat daar speelde op het str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En dat zomaar naar de golven ging staan blaffen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wou vechten met een weggewaaide krant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1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63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68360" y="549360"/>
            <a:ext cx="8424720" cy="604836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-258120" y="1690560"/>
            <a:ext cx="1040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En zo liepen we vaak zonder wat te zegg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lange einden heel gezellig hand in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En dan keek ik om en zag m,n kleine voeten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naast m,n Opa’s grote stappen in het zand</a:t>
            </a: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4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3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79280" y="1432080"/>
            <a:ext cx="8964720" cy="88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Maar nu loop ik in m,n eentje want m,n Opa loopt niet m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en ik breng m,n kleine tranen naar die hele grote z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Ik zie nog m,n Opa liggen als een stille witte ko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Opa sloot voorgoed zijn ogen en hij slaat ze nooit meer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Maar nu loop ik in m,n eentje want m,n Opa loopt niet m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en ik breng m,n kleine tranen naar die hele grote z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Ik zie nog m,n Opa liggen als een stille witte ko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Opa sloot voorgoed zijn ogen en hij slaat ze nooit meer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6337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-416160" y="1700280"/>
            <a:ext cx="98002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Duizend golven spoelen over  Opa's stap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het zijn alleen mijn eigen voeten die daar st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Maar ik ken nog zijn verhalen en zijn grapp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en ik weet nog wat ik met hem heb geda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En zo is Opa toch een beetje blijven leven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want herinneringen raak je nooit meer kwij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En hij heeft me zoveel goede raad gegev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dus hij blijft gewoon mijn Opa voor altijd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9000">
    <p:zoom dir="out"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2000"/>
                            </p:stCondLst>
                            <p:childTnLst>
                              <p:par>
                                <p:cTn id="8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8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-1121760" y="1546200"/>
            <a:ext cx="10409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En zo liepen we vaak zonder wat te zeggen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lange einden heel gezellig hand in h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En dan keek ik om en zag m,n kleine voeten 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Monotype Corsiva"/>
              </a:rPr>
              <a:t>naast m,n Opa’s grote stappen in het zan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4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3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07960" y="380880"/>
            <a:ext cx="8128080" cy="609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0" y="907920"/>
            <a:ext cx="8893080" cy="9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Maar nu loop ik in m,n eentje want m,n Opa loopt niet m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en ik breng m,n kleine tranen naar die hele grote z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Ik zie nog m,n Opa liggen als een stille witte ko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Opa sloot voorgoed zijn ogen en hij slaat ze nooit meer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Maar nu loop ik in m,n eentje want m,n Opa loopt niet me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en ik breng m,n kleine tranen naar die hele grote z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Ik zie nog m,n Opa liggen als een stille witte kop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Monotype Corsiva"/>
              </a:rPr>
              <a:t>Opa sloot voorgoed zijn ogen en hij slaat ze nooit meer 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95480" y="44560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0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with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6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8785440" cy="64087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31880" y="2023920"/>
            <a:ext cx="6313320" cy="16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Monotype Corsiva"/>
              </a:rPr>
              <a:t>Bezoek ook eens onze webs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Monotype Corsiva"/>
                <a:hlinkClick r:id="rId3"/>
              </a:rPr>
              <a:t>www.frank-gea.n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-194400" y="5013360"/>
            <a:ext cx="5465880" cy="642600"/>
          </a:xfrm>
          <a:prstGeom prst="rect">
            <a:avLst/>
          </a:prstGeom>
          <a:solidFill>
            <a:srgbClr val="ffffff">
              <a:alpha val="2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Monotype Corsiva"/>
              </a:rPr>
              <a:t>Groetjes  Gea en Frank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6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7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med">
    <p:zoom dir="in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0" dur="3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1" dur="1500" autoRev="1" fill="hold"/>
                                        <p:tgtEl>
                                          <p:spTgt spid="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0"/>
                            </p:stCondLst>
                            <p:childTnLst>
                              <p:par>
                                <p:cTn id="1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3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3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8000"/>
                            </p:stCondLst>
                            <p:childTnLst>
                              <p:par>
                                <p:cTn id="12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46" dur="500" fill="hold"/>
                                        <p:tgtEl>
                                          <p:spTgt spid="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4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9" dur="250" autoRev="1" fill="hold"/>
                                        <p:tgtEl>
                                          <p:spTgt spid="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5T20:06:27Z</dcterms:created>
  <dc:creator>Gea</dc:creator>
  <dc:description/>
  <dc:language>en-US</dc:language>
  <cp:lastModifiedBy>Smets</cp:lastModifiedBy>
  <dcterms:modified xsi:type="dcterms:W3CDTF">2010-02-20T07:54:55Z</dcterms:modified>
  <cp:revision>6</cp:revision>
  <dc:subject/>
  <dc:title>Dia 1</dc:title>
</cp:coreProperties>
</file>