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DD6-343E-4327-92AC-21F0B4DA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686-1BF2-40E6-97F9-9D6DC06B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8C7-18D9-4B5D-BAC0-BDFD380C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AA7-D0E7-4477-BCA1-24027820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F73-B982-47E3-9DA6-298E28DD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014-38E3-48AA-8A4A-7535E4E0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1BC-E1FA-44C9-916E-CE2F3308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628-D33F-46E5-88A3-D77771B7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06E-EAD3-48C6-8261-823180A9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BB7-01AA-4982-8D4D-AD1555B1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2EF-69D0-4755-AE3C-E44F4434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C87-F177-4F3F-8428-16526F01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D26DC6-C666-4E0F-9DB9-25518157A4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4382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000066"/>
                </a:solidFill>
                <a:latin typeface="Comic Sans MS"/>
              </a:rPr>
              <a:t>Gli enzim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1600200"/>
            <a:ext cx="807696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700"/>
            </a:b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Di particolare importanza per la nostra salute sono gli enzimi della classe </a:t>
            </a:r>
            <a:r>
              <a:rPr b="1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idrolasi  </a:t>
            </a: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che</a:t>
            </a:r>
            <a:r>
              <a:rPr b="1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aggiungono molecole d’acqua e permettono così il processo di digestione di proteine, carboidrati e grass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Un’altra funzione è quella di combattere le infiammazio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Molti enzimi della classe ossidoriduttasi, come la catalasi, fungono da antiossidanti, cioè aiutano a combattere i radicali liberi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Molti enzimi per funzionare hanno bisogno di  combinarsi con particolari sostanze chiamate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-enzimi</a:t>
            </a:r>
            <a:r>
              <a:rPr b="1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 e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-fat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Esempio di co-fattori sono minerali come zinco, magnesio, rame o calc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I co-enzimi sono invece sostanze organiche, come per esempio le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tamine</a:t>
            </a: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La mancanza di un enzima, o del co-enzima o del co-fattore, determina un danno all’organismo, più o meno grave a seconda del processo coinvol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molti casi l’assenza dell’enzima è incompatibile con la v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85800"/>
            <a:ext cx="7848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ssun processo vitale può avvenire senza l’enzima 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457200"/>
            <a:ext cx="48006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e reazioni chimiche nei viv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457200" y="144792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066680"/>
            <a:ext cx="79246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l’interno di ciascuna delle nostre cellule si verifica una continua trasformazione di molecole in altre molecole, in seguito alla rottura dei legami chimici esistenti e alla costruzione di nuovi. Questi cambiamenti che portano alla formazione di una o più sostanze nuove, sono chiamati 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REAZIONI CHIMICH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e negli esseri viventi costituiscono il 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METABOLIS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 sistema utile per descrivere una reazione è un’equazione chimica nella quale si scrivono a sinistra le sostanze che si trasformano 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( REAGENTI 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, a destra le sostanze ottenute in seguito alla trasformazione 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( PRODOTTI )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38760" cy="199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762120" y="533412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È importante notare che in entrambi i termini dell’equazione chimica il numero degli atomi di ossigeno e di idrogeno non cambia, questo perché le reazioni chimiche non creano né distruggono atomi, ma semplicemente modificano il modo con cui essi si legano tra lo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8800" y="609480"/>
            <a:ext cx="5410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Reazioni chimiche 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828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 reazioni chimiche del metabolismo sono di due ti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590920"/>
            <a:ext cx="190512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bol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28195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438280"/>
            <a:ext cx="4876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zioni attraverso le quali le cellule costruiscono sostanze complesse a partire da sostanze semplici ( per esempio dagli amminoacidi si costruiscono le proteine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este reazioni hanno bisogno di energia per poter avvenire </a:t>
            </a:r>
            <a:r>
              <a:rPr b="0" lang="en-GB" sz="1800" spc="-1" strike="noStrike" u="sng">
                <a:solidFill>
                  <a:srgbClr val="006600"/>
                </a:solidFill>
                <a:uFillTx/>
                <a:latin typeface="Times New Roman"/>
              </a:rPr>
              <a:t>( REAZIONI ENDOERGONICHE )</a:t>
            </a:r>
            <a:r>
              <a:rPr b="0" lang="en-GB" sz="1800" spc="-1" strike="noStrike" u="sng">
                <a:solidFill>
                  <a:srgbClr val="006600"/>
                </a:solidFill>
                <a:uFillTx/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952880"/>
            <a:ext cx="18651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abol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51814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4648320"/>
            <a:ext cx="495288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zioni attraverso le quali le cellule demoliscono  sostanze complesse a partire da sostanze semplici ( per esempio dal glucosio ottengono anidride carbonica e acqua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este reazioni liberano energia mentre avvengono          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Times New Roman"/>
              </a:rPr>
              <a:t>( REAZIONI ESOERGONICHE</a:t>
            </a:r>
            <a:r>
              <a:rPr b="0" lang="en-GB" sz="1600" spc="-1" strike="noStrike" u="sng">
                <a:solidFill>
                  <a:srgbClr val="ff3300"/>
                </a:solidFill>
                <a:uFillTx/>
                <a:latin typeface="Times New Roman"/>
              </a:rPr>
              <a:t> )</a:t>
            </a:r>
            <a:r>
              <a:rPr b="0" lang="en-GB" sz="1600" spc="-1" strike="noStrike" u="sng">
                <a:solidFill>
                  <a:srgbClr val="ff3300"/>
                </a:solidFill>
                <a:uFillTx/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19520" y="304920"/>
            <a:ext cx="36576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L’energia nelle re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91560" cy="55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609480"/>
            <a:ext cx="80773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’energia  e la velocità delle reazioni chim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752480"/>
            <a:ext cx="73152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lte reazioni chimiche indispensabili per la vita delle cellule sono molto lente e richiederebbero troppo tempo per poter avvenire. Gli enzimi, speciali proteine, funzionano da acceleratori chimici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( CATALIZZATORI 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iducendo tantissimo il tempo di re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 è valutato che la catena di reazioni chimiche che permette la digestione, se avvenisse senza l’intervento degli enzimi, impiegherebbe circa 100.000 ann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457200"/>
            <a:ext cx="7772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 fanno gli enzimi ad accelerare  le reazioni chimich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295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tte le reazioni chimiche, sia quelle esoergoniche che quelle endoergoniche, hanno bisogno di una certa quantità di energia iniziale per innescare la reazione : </a:t>
            </a:r>
            <a:r>
              <a:rPr b="0" lang="en-GB" sz="2400" spc="-1" strike="noStrike" u="sng">
                <a:solidFill>
                  <a:srgbClr val="ff3300"/>
                </a:solidFill>
                <a:uFillTx/>
                <a:latin typeface="Times New Roman"/>
              </a:rPr>
              <a:t>l’energia di attiv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6483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819520"/>
            <a:ext cx="7543800" cy="119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L’energia di attivazione serve per spezzare i legami chimici delle sostanze reagenti e permettere poi la formazione di nuovi legami chim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41972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che le reazioni esoergoniche, che avvengono spontaneamente, necessitano di una certa quantità di energia per iniziare. La combustione di un pezzo di carta è una reazione esoergonica, ma serve l’energia della fiamma di un fiammifero per innescar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163" t="0" r="5676" b="0"/>
          <a:stretch/>
        </p:blipFill>
        <p:spPr>
          <a:xfrm>
            <a:off x="990720" y="2529000"/>
            <a:ext cx="7010280" cy="28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609480" y="685800"/>
            <a:ext cx="8001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Gli enzimi funzionan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abbassando l’energia di attivazione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delle reazioni chimiche. Pertanto la reazione avviene con minore energia e maggiore veloc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410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Reazione senza en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95200" y="54100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Reazione catalizzata dall’ en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90920" y="1522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 agiscono gli enzi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286680" cy="214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838080" y="762120"/>
            <a:ext cx="7543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i enzimi sono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specific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ioè ognuno di essi è capace di regolare una ben precisa reazione chimica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gni enzima possiede una parte della sua molecola, chiamata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SITO ATTIV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apace di legarsi alle molecole dei reagenti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( SUBSTRATO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029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’unione del substrato con il sito attivo dell’enzima provoca una deformazione dei legami dei reagenti, provocandone la rottura. Questo meccanismo riduce l’energia di attivazione necessaria. Alla fine della reazione l’enzima è inalterato e pronto per un’altra reazione dello stesso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1371600"/>
            <a:ext cx="7315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ome di un enzima si forma aggiungendo il suffisso “-asi” al nome del substrato con cui reagisce: ad esempio, l’enzima che controlla la scomposizione dell’urea si chiama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a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enzima che scinde il lattosio si chiama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ta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tre quelli che controllano l’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rolisi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e proteine vengono detti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easi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nno eccezione alcuni enzimi, come la tripsina e la pepsina, che mantengono il nome che avevano prima dell’adozione di questa nomenclatura)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33520"/>
            <a:ext cx="419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nomenclatura degli enz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fisio</dc:creator>
  <dc:description/>
  <dc:language>en-US</dc:language>
  <cp:lastModifiedBy>itas</cp:lastModifiedBy>
  <cp:revision>0</cp:revision>
  <dc:subject/>
  <dc:title>Presentazione di PowerPoint</dc:title>
</cp:coreProperties>
</file>