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489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9632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09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3992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532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6648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4224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4224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42240" indent="-306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489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9632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09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161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645480" indent="-4683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10160" indent="-468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74480" indent="-468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38800" indent="-4683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03480" indent="-4683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03480" indent="-4683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03480" indent="-4683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645480" indent="-4683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10160" indent="-46872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74480" indent="-46872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38800" indent="-4683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03480" indent="-4683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03480" indent="-4683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03480" indent="-4683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ve Little Ducks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06440" y="9182160"/>
            <a:ext cx="2720880" cy="279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632400" cy="4394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2451240" y="2679840"/>
            <a:ext cx="3632040" cy="43941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9144000" y="990720"/>
            <a:ext cx="3632040" cy="4394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7124760" y="2781360"/>
            <a:ext cx="3632040" cy="43941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5210280" y="4251240"/>
            <a:ext cx="435600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76940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e little duck went swimming on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 the hills and far away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593720" y="2362320"/>
            <a:ext cx="9817200" cy="71960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0423800" y="1715760"/>
            <a:ext cx="109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40800"/>
                </a:solidFill>
                <a:latin typeface="Gill Sans"/>
                <a:ea typeface="Gill Sans"/>
              </a:rPr>
              <a:t>1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724280" y="5410080"/>
            <a:ext cx="13845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5765760" cy="48387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10515600" y="3352680"/>
            <a:ext cx="2146320" cy="26035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104644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ummy duck said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41200" y="1955880"/>
            <a:ext cx="5446800" cy="3975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1066680" y="2076480"/>
            <a:ext cx="325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 qu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6095880"/>
            <a:ext cx="128397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  <a:ea typeface="Gill Sans"/>
              </a:rPr>
              <a:t>And five little ducks came swimming b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8381880" y="714996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0515600" y="533412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"/>
          <a:stretch/>
        </p:blipFill>
        <p:spPr>
          <a:xfrm>
            <a:off x="6705720" y="678168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6"/>
          <a:stretch/>
        </p:blipFill>
        <p:spPr>
          <a:xfrm>
            <a:off x="9677520" y="6781680"/>
            <a:ext cx="21463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ve little ducks went swimming on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 the hills and far away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593720" y="2133720"/>
            <a:ext cx="9817200" cy="74246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0423800" y="1715760"/>
            <a:ext cx="109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40800"/>
                </a:solidFill>
                <a:latin typeface="Gill Sans"/>
                <a:ea typeface="Gill Sans"/>
              </a:rPr>
              <a:t>5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114800" y="4524480"/>
            <a:ext cx="1625760" cy="15494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8077320" y="494028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05320" y="5702400"/>
            <a:ext cx="1904760" cy="18158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03920" y="4648320"/>
            <a:ext cx="1384200" cy="1320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624720" y="5219640"/>
            <a:ext cx="1625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988056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ummy duck said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flipH="1">
            <a:off x="241200" y="1955880"/>
            <a:ext cx="5446800" cy="3975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2076480"/>
            <a:ext cx="325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 qu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735120" y="6108840"/>
            <a:ext cx="104788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But only four little ducks came b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619440" y="703908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765760" y="70484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7899480" y="70358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10287000" y="7048440"/>
            <a:ext cx="21463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 little ducks went swimming on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 the hills and far away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9817200" cy="7467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0423800" y="1715760"/>
            <a:ext cx="109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40800"/>
                </a:solidFill>
                <a:latin typeface="Gill Sans"/>
                <a:ea typeface="Gill Sans"/>
              </a:rPr>
              <a:t>4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114800" y="4524480"/>
            <a:ext cx="1625760" cy="1549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8077320" y="494028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3505320" y="5702400"/>
            <a:ext cx="1904760" cy="18158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5803920" y="4648320"/>
            <a:ext cx="138420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104644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ummy duck said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553080" y="762120"/>
            <a:ext cx="6486480" cy="49165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flipH="1">
            <a:off x="241200" y="1955880"/>
            <a:ext cx="5446800" cy="3975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1066680" y="2076480"/>
            <a:ext cx="325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 qu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735120" y="6108840"/>
            <a:ext cx="104788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But only three little ducks came b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765760" y="70484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7899480" y="70358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10287000" y="7048440"/>
            <a:ext cx="21463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1076976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ree little ducks went swimming on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 the hills and far away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93720" y="2286000"/>
            <a:ext cx="9817200" cy="72723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0423800" y="1715760"/>
            <a:ext cx="109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40800"/>
                </a:solidFill>
                <a:latin typeface="Gill Sans"/>
                <a:ea typeface="Gill Sans"/>
              </a:rPr>
              <a:t>3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8077320" y="494028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3505320" y="5702400"/>
            <a:ext cx="1904760" cy="18158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5803920" y="4648320"/>
            <a:ext cx="138420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104644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ummy duck said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5715000" y="838080"/>
            <a:ext cx="6912000" cy="51800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flipH="1">
            <a:off x="241200" y="1955880"/>
            <a:ext cx="5446800" cy="3975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076480"/>
            <a:ext cx="325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 qu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735120" y="6108840"/>
            <a:ext cx="104788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But only two little ducks came b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65760" y="70484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7899480" y="7035840"/>
            <a:ext cx="2146320" cy="2603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241200" y="9093240"/>
            <a:ext cx="275616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1076976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wo little ducks went swimming on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 the hills and far away,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593720" y="2514600"/>
            <a:ext cx="9817200" cy="70437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0423800" y="1715760"/>
            <a:ext cx="109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40800"/>
                </a:solidFill>
                <a:latin typeface="Gill Sans"/>
                <a:ea typeface="Gill Sans"/>
              </a:rPr>
              <a:t>2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3505320" y="5702400"/>
            <a:ext cx="1904760" cy="1815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6172200" y="4952880"/>
            <a:ext cx="138420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104644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ummy duck said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6705720" cy="4916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 flipH="1">
            <a:off x="241200" y="1955880"/>
            <a:ext cx="5446800" cy="3975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2076480"/>
            <a:ext cx="325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90b00"/>
                </a:solidFill>
                <a:latin typeface="Arial"/>
                <a:ea typeface="Arial"/>
              </a:rPr>
              <a:t>quack, qu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35120" y="6108840"/>
            <a:ext cx="104788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But only one little duck came back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5765760" y="7048440"/>
            <a:ext cx="21463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 kennedy</cp:lastModifiedBy>
  <dcterms:modified xsi:type="dcterms:W3CDTF">2009-10-25T08:28:49Z</dcterms:modified>
  <cp:revision>10</cp:revision>
  <dc:subject/>
  <dc:title>Five Little Ducks</dc:title>
</cp:coreProperties>
</file>