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4.gif" ContentType="image/gif"/>
  <Override PartName="/ppt/media/image9.gif" ContentType="image/gif"/>
  <Override PartName="/ppt/media/image13.gif" ContentType="image/gif"/>
  <Override PartName="/ppt/media/image1.wmf" ContentType="image/x-wmf"/>
  <Override PartName="/ppt/media/image2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lach.wav" ContentType="audio/x-wav"/>
  <Override PartName="/ppt/media/image11.gif" ContentType="image/gif"/>
  <Override PartName="/ppt/media/image7.gif" ContentType="image/gif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360" y="417348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417348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1680" y="417348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6520" y="1904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2680" y="1904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360" y="417348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6520" y="417348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2680" y="417348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533520"/>
            <a:ext cx="7238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360" y="417348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1680" y="417348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1680" y="1904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417348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3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spcBef>
                <a:spcPts val="9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943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3921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7899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audio" Target="../media/lach.wav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560" y="1371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Arial"/>
              </a:rPr>
              <a:t>Glimlach...en zet het geluid aa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"/>
          <p:cNvSpPr/>
          <p:nvPr/>
        </p:nvSpPr>
        <p:spPr>
          <a:xfrm>
            <a:off x="1240920" y="4038480"/>
            <a:ext cx="66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limlachen is besmettelijk,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15432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05720" y="315432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297320" y="5334120"/>
            <a:ext cx="549360" cy="54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391520" y="53341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371600" y="5334120"/>
            <a:ext cx="549360" cy="54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657600" y="2362320"/>
            <a:ext cx="159228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00160" y="533520"/>
            <a:ext cx="514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je krijgt het als de griep,</a:t>
            </a:r>
            <a:r>
              <a:rPr b="1" lang="nl-NL" sz="1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oen iemand vandaag glimlachte naar 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limlachte ik o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                                 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k liep de hoek om en iemand zag mij gri</a:t>
            </a:r>
            <a:r>
              <a:rPr b="1" lang="nl-BE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ni</a:t>
            </a: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en       </a:t>
            </a:r>
            <a:br>
              <a:rPr sz="1800"/>
            </a:b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oen ook hij begon te glimlachen realiseerde ik me dat ik hem had aangestok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       </a:t>
            </a:r>
            <a:br>
              <a:rPr sz="1800"/>
            </a:b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                                          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k dacht na over mijn glimlach en realiseerde zijn waard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 </a:t>
            </a: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en enkele glimlach, zoals die van mij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kan de hele wereld rond reiz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                                                               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us, als je een glimlach voelt opkomen, laat het dan niet links lig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rt een epidemie, en besmet de hele wereld 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57913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5791320"/>
            <a:ext cx="549360" cy="54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14400" y="533520"/>
            <a:ext cx="549360" cy="54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743200" y="4896000"/>
            <a:ext cx="3048120" cy="59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209680" y="3124080"/>
            <a:ext cx="510552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914400" y="2590920"/>
            <a:ext cx="1211400" cy="176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352680" y="129528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010280" y="2590920"/>
            <a:ext cx="12114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3124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oud de glimlach gaande door hem door te sturen naar een vriend.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edereen kan een glimlach gebruik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38480" y="4648320"/>
            <a:ext cx="777960" cy="66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1450800" cy="164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553080" y="4343400"/>
            <a:ext cx="1725840" cy="164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962520" y="5410080"/>
            <a:ext cx="96048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1066680" y="609480"/>
            <a:ext cx="169236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6324480" y="609480"/>
            <a:ext cx="169236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809880" y="1447920"/>
            <a:ext cx="1474920" cy="164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7964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23:12:13Z</dcterms:created>
  <dc:creator>kees storm</dc:creator>
  <dc:description/>
  <dc:language>en-US</dc:language>
  <cp:lastModifiedBy>Smets</cp:lastModifiedBy>
  <dcterms:modified xsi:type="dcterms:W3CDTF">2008-09-12T18:48:14Z</dcterms:modified>
  <cp:revision>5</cp:revision>
  <dc:subject/>
  <dc:title>Glimlach...en zet het geluid aan. </dc:title>
</cp:coreProperties>
</file>