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176E1-B076-468F-930F-5A66AAE8F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44846-031C-4420-A7FD-DBB17A96D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5C9E8-E852-41AC-A909-C9179EDA2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2E6-EE28-49FD-9B7F-03BDAF9E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9AA-8ED0-4992-8C92-2DD984E0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28042-0DCA-44D3-AC43-12F78BDC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EF77D-5CA5-427D-8630-54570127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0634B-7156-45AE-9D79-60637291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E2C89-2289-46DC-BD9A-FCA99E45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1211E-0C01-4494-97CD-5A0415F2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46BA6-8BEF-44F1-AF73-FDF2AD6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43FC9-DCCF-42DD-86F4-C0CF1693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9AA6A-99E4-4335-A431-C17C3968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58F75-FB05-4901-A82E-8BE13E7E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F0FB4-D65B-41CF-BAF1-B972EB7B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88E-F272-4CE1-8F49-19B42DF6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458FE-9AC3-4E9E-82B3-533DDD52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A806E-2F1F-49AE-8864-D98E5465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2EB32-F80F-45A8-AF95-8D05788D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5FFFC-71D5-4827-9074-DF24C5B8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D1BCB-ED02-4DE1-8845-2EACA731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0249A-D522-4A34-8339-DB9D5388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8BB02-3C56-4AF4-A292-BC05E8D8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0E542-F4E0-4567-929F-9040ECB0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E246C-3B05-457B-802E-29D5656C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7C998-374F-49DE-8720-D9311268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EA5-5BB5-4D49-BD6F-5BAFAC20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AB0F7-86FD-436E-BC95-2F3277AF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4F1C-A501-4DA6-9498-CC2DA671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748C-2D53-48AA-9C59-0B6B43DA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6D6B-F37B-436F-A0ED-4CDE5A62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43AA-DDBF-44CA-A5CB-B72BD4B5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E094-F8F7-4A3E-8099-3F26CBF8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5BC7-C0C7-4BC0-AC69-A7CCD7F9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4A5C-F727-494B-99DE-8F63BB25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C2F-B9BF-4A3B-AB18-75F8C586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F55F-CC7A-49B0-AB22-16F13AE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3E26-1FF0-458F-BDEA-1DA6956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9A6E-F776-42F1-9ADC-67702F21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26CE-1D03-47CE-A3C2-AE9619C1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6158-35C6-4865-A6B0-07165414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7A7A-7095-4057-918D-427A13EB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832B-79EA-4E35-B7D1-F5EF9C8E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606E-C7D9-423B-BC11-3ECF797A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68E7-BDAA-455B-83DC-1ECDFACE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5E26-3E76-4895-9C2A-2EFCAE42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D68-98AB-4A9B-AB05-44CD0255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D2BE-ABC6-40FB-8C4A-A73447AB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043F7-76C7-4853-8892-7DAE16D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3007-6567-4B67-8746-2516471A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E7EC-DC48-41CC-A067-941115A8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4617-C448-46C5-981F-8FE01BCC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07D1-7F80-4559-B5C9-5EDED390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E0DCB-4267-4CD1-B453-4390D35A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DE3C6-93D1-4534-9F74-5EF8CC00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F3E9-C298-4E3B-83B5-0F5539E6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88966-DA40-4A81-B9F1-2AF8F13A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E1F-F185-4279-B422-0557A4C0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1437-A949-4FC4-A927-4E5116A5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6F5EB-9993-4984-91B7-9DD65B86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18F5-51D2-40DF-ADF0-664A0DD5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4586A-108D-419F-882D-175FB8E0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B1B7C-3793-41F6-9622-729C69A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FB86-DA11-42E2-9F66-3B702240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E957-FDA5-4053-89CF-0E104FE3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1BFB-92C2-4F13-95CB-4C0D9A7A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C6016-EFDB-43D3-BA52-4072F128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934E2-51B6-4673-B8F4-7FDCFFA8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F73-6A7C-43D7-8587-15FCCC64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B180A-DE09-4533-AB90-A4F1D9C5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03CF1-7243-49FC-AAEE-A892F63F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5CE3F-DDB0-453A-AE2E-30CA8BEF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E8670-6301-4056-9168-3A0166AE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0F999-930B-45DF-A5B5-6F6E1B93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F195-7EA3-4ACA-A19C-9CA12598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F7585-A70E-4590-939E-9C81AF32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1081F-438A-4FEF-B0FA-CCA9FD8D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921B1-1CD3-4354-B8CF-FD1425EC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61CF1-8716-418D-AE65-ABB43E93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D0F-4727-4981-9AB7-F3EBA49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F077C-8559-4AEE-8CB9-A5C9B732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0C345-C829-4116-B6D2-44119760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EC301-FF25-4250-A930-A97B5848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F027F-66E3-455E-880A-97148466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0F4DE-12FD-461E-8F5C-A3560329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AC31-25C4-4BE6-8587-555487F3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07DD2-7DD1-4D12-BCB5-65582C63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CF745-0D2A-45AE-A6B1-CE1A54A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B6DA3-C008-4D9B-BE5E-76492D4E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B4B97-A6C9-4A09-AAD7-886AC95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CFF-42D0-46BB-9CD1-7E9EF2C8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10721-0186-4F7F-9EB4-19B9F19F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F97E2-BA45-4370-A8D3-622652A0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AB4E9-FD74-4727-983D-A109C69D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65C0D-9874-434D-AC1E-353EEE68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6719F-EFD5-4659-9AE6-084C229C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969E6-2A59-4A84-AE26-221E6631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E5C27-4023-472B-9FDD-2BD44218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696A5-E518-4081-97D5-719BA028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CB37C-0CF2-4BFB-8E54-4484228B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B6365-B1CF-4000-BF71-1016627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01A-D200-4659-9759-D97FDEA6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78B65-5227-4566-86E5-5D37B9F0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44F88-CD76-4B4D-A5A5-0D056202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15EE-C135-40AB-A365-4C6B2C44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8C842-6D2A-413B-BA18-A2026104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C51E9-ADEC-48E2-8B1C-60099563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8198D-06BF-4D59-BD36-D9729435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2EA27-FCEB-4357-BFA2-037B4C7E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AB413-8A19-45AD-9734-440BE335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ED629-144A-4B9A-A632-89581E23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D906-1D25-41C2-9792-50E1E470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37F-1241-4767-85A4-4CE7DF9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376B4-1981-4B8B-B73C-9BDE9341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61062-1461-46D8-A2BA-781F014A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1A9F-68DE-4E4D-9765-AC3F5BD2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FFDDD-1D25-4A99-9732-0261795A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3E4D4-7C87-48B8-AF5C-9539742C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CC93C-8649-4051-A734-7A0B07D0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9A09D-4C7A-44F5-97EB-47A0E1C1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7B90F-D882-4043-B4B7-CAD71047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75BDF-2C2E-4869-AA00-5CC527E6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331D9-F5CD-42CF-9682-9D7FF8B5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D4F09-8346-4FB1-BCF5-4469398926ED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8839080" y="600120"/>
            <a:ext cx="2907000" cy="581652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8992800" y="5955840"/>
            <a:ext cx="13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774720" y="5951520"/>
            <a:ext cx="78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10446840" y="5955840"/>
            <a:ext cx="116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96864-07D6-410C-B7C4-A186B342A7A3}" type="slidenum"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6040" y="3086280"/>
            <a:ext cx="11263320" cy="330516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0558440" y="5955840"/>
            <a:ext cx="1015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5D8A1-11E7-4624-B188-7589C8BAC7BE}" type="slidenum"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39560" y="614520"/>
            <a:ext cx="11309400" cy="118872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04892-CCC8-4E4F-824A-BB4884338615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47840" y="5141880"/>
            <a:ext cx="11289960" cy="125892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36694-EF50-430C-BB7C-E490A81914E4}" type="slidenum"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6040" y="606600"/>
            <a:ext cx="11300040" cy="125856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92C0D-4C2D-496B-B392-9CBF9B300165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6040" y="606600"/>
            <a:ext cx="11300040" cy="125856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3E35E-143C-4A2F-ABA3-8935EB46D5F7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1360" y="606600"/>
            <a:ext cx="11299680" cy="125856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9D7E5-98F2-4E5A-94EE-048016D800FE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47840" y="5141880"/>
            <a:ext cx="11298240" cy="127476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29DED-AC82-49D8-8A3D-08037B6F8552}" type="slidenum"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39560" y="614520"/>
            <a:ext cx="11309400" cy="118872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BBEF2-F0ED-4CB6-B88E-5EE8C23C559A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cprautoglassrepair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16"/>
          <p:cNvGrpSpPr/>
          <p:nvPr/>
        </p:nvGrpSpPr>
        <p:grpSpPr>
          <a:xfrm>
            <a:off x="446040" y="453960"/>
            <a:ext cx="11300040" cy="98640"/>
            <a:chOff x="446040" y="453960"/>
            <a:chExt cx="11300040" cy="98640"/>
          </a:xfrm>
        </p:grpSpPr>
        <p:sp>
          <p:nvSpPr>
            <p:cNvPr id="458" name="Rectangle 17"/>
            <p:cNvSpPr/>
            <p:nvPr/>
          </p:nvSpPr>
          <p:spPr>
            <a:xfrm>
              <a:off x="446040" y="456840"/>
              <a:ext cx="3703680" cy="95760"/>
            </a:xfrm>
            <a:prstGeom prst="rect">
              <a:avLst/>
            </a:prstGeom>
            <a:solidFill>
              <a:srgbClr val="1a3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59" name="Rectangle 18"/>
            <p:cNvSpPr/>
            <p:nvPr/>
          </p:nvSpPr>
          <p:spPr>
            <a:xfrm>
              <a:off x="8042400" y="453960"/>
              <a:ext cx="3703680" cy="98640"/>
            </a:xfrm>
            <a:prstGeom prst="rect">
              <a:avLst/>
            </a:prstGeom>
            <a:solidFill>
              <a:srgbClr val="969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0" name="Rectangle 19"/>
            <p:cNvSpPr/>
            <p:nvPr/>
          </p:nvSpPr>
          <p:spPr>
            <a:xfrm>
              <a:off x="4241880" y="456840"/>
              <a:ext cx="3703680" cy="92520"/>
            </a:xfrm>
            <a:prstGeom prst="rect">
              <a:avLst/>
            </a:prstGeom>
            <a:solidFill>
              <a:srgbClr val="45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571680" y="888840"/>
            <a:ext cx="11048760" cy="50803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21"/>
          <p:cNvSpPr/>
          <p:nvPr/>
        </p:nvSpPr>
        <p:spPr>
          <a:xfrm>
            <a:off x="449280" y="4427640"/>
            <a:ext cx="11260080" cy="1963800"/>
          </a:xfrm>
          <a:prstGeom prst="rect">
            <a:avLst/>
          </a:prstGeom>
          <a:solidFill>
            <a:srgbClr val="1a3260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80680" y="4571640"/>
            <a:ext cx="1099332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 MT"/>
              </a:rPr>
              <a:t>WINDSHIELD CHIP REPAIR</a:t>
            </a:r>
            <a:endParaRPr b="0" lang="en-US" sz="6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80680" y="5466960"/>
            <a:ext cx="1099332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cebff"/>
                </a:solidFill>
                <a:latin typeface="Gill Sans MT"/>
              </a:rPr>
              <a:t>HTTPS://WWW.CPRAUTOGLASSREPAIR.COM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1" descr=""/>
          <p:cNvPicPr/>
          <p:nvPr/>
        </p:nvPicPr>
        <p:blipFill>
          <a:blip r:embed="rId1"/>
          <a:stretch/>
        </p:blipFill>
        <p:spPr>
          <a:xfrm>
            <a:off x="1271520" y="2155680"/>
            <a:ext cx="4183200" cy="27957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2"/>
          <p:cNvSpPr/>
          <p:nvPr/>
        </p:nvSpPr>
        <p:spPr>
          <a:xfrm>
            <a:off x="6478560" y="2814480"/>
            <a:ext cx="410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Quality Auto Glas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Quality auto glass, 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PR Auto Glas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 is a family owned and operated business that takes pride in the service we provide to our customer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"/>
          <p:cNvPicPr/>
          <p:nvPr/>
        </p:nvPicPr>
        <p:blipFill>
          <a:blip r:embed="rId1"/>
          <a:stretch/>
        </p:blipFill>
        <p:spPr>
          <a:xfrm>
            <a:off x="2003400" y="2711520"/>
            <a:ext cx="8128080" cy="373680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"/>
          <p:cNvSpPr/>
          <p:nvPr/>
        </p:nvSpPr>
        <p:spPr>
          <a:xfrm>
            <a:off x="3019320" y="120816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 never install anything in vehicles we do not trust or stand by. Treating our customers vehicles as our own, we stand by our work and warranti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" descr=""/>
          <p:cNvPicPr/>
          <p:nvPr/>
        </p:nvPicPr>
        <p:blipFill>
          <a:blip r:embed="rId1"/>
          <a:stretch/>
        </p:blipFill>
        <p:spPr>
          <a:xfrm>
            <a:off x="5411880" y="2220840"/>
            <a:ext cx="6296040" cy="289404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"/>
          <p:cNvSpPr/>
          <p:nvPr/>
        </p:nvSpPr>
        <p:spPr>
          <a:xfrm>
            <a:off x="853920" y="3002040"/>
            <a:ext cx="414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 are a certified professional replacement shop for all insurance companies &amp; we also hold a tier 1 status for all major insurance companies today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2805120" y="3187800"/>
            <a:ext cx="6737400" cy="29289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"/>
          <p:cNvSpPr/>
          <p:nvPr/>
        </p:nvSpPr>
        <p:spPr>
          <a:xfrm>
            <a:off x="3125880" y="1695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r goal here is to combine outstanding service, with high quality auto glass installation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479520" y="2211480"/>
            <a:ext cx="6221160" cy="28605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2"/>
          <p:cNvSpPr/>
          <p:nvPr/>
        </p:nvSpPr>
        <p:spPr>
          <a:xfrm>
            <a:off x="7385040" y="3041640"/>
            <a:ext cx="364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 can help you avoid a poor windshield installation by offering the best price possible on your new windshiel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Rectangle 11"/>
          <p:cNvSpPr/>
          <p:nvPr/>
        </p:nvSpPr>
        <p:spPr>
          <a:xfrm>
            <a:off x="8042400" y="723960"/>
            <a:ext cx="3703680" cy="566748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95840" y="1418760"/>
            <a:ext cx="3081240" cy="17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FOR MORE DETAILS VISIT OUR SITE: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80520" y="3295800"/>
            <a:ext cx="728028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828282"/>
                </a:solidFill>
                <a:uFillTx/>
                <a:latin typeface="Gill Sans MT"/>
                <a:hlinkClick r:id="rId1"/>
              </a:rPr>
              <a:t>HTTPS://WWW.CPRAUTOGLASSREPAIR.COM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  <p:grpSp>
        <p:nvGrpSpPr>
          <p:cNvPr id="479" name="Group 13"/>
          <p:cNvGrpSpPr/>
          <p:nvPr/>
        </p:nvGrpSpPr>
        <p:grpSpPr>
          <a:xfrm>
            <a:off x="446040" y="453960"/>
            <a:ext cx="11300040" cy="98640"/>
            <a:chOff x="446040" y="453960"/>
            <a:chExt cx="11300040" cy="98640"/>
          </a:xfrm>
        </p:grpSpPr>
        <p:sp>
          <p:nvSpPr>
            <p:cNvPr id="480" name="Rectangle 14"/>
            <p:cNvSpPr/>
            <p:nvPr/>
          </p:nvSpPr>
          <p:spPr>
            <a:xfrm>
              <a:off x="446040" y="456840"/>
              <a:ext cx="3703680" cy="95760"/>
            </a:xfrm>
            <a:prstGeom prst="rect">
              <a:avLst/>
            </a:prstGeom>
            <a:solidFill>
              <a:srgbClr val="1a3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81" name="Rectangle 15"/>
            <p:cNvSpPr/>
            <p:nvPr/>
          </p:nvSpPr>
          <p:spPr>
            <a:xfrm>
              <a:off x="8042400" y="453960"/>
              <a:ext cx="3703680" cy="98640"/>
            </a:xfrm>
            <a:prstGeom prst="rect">
              <a:avLst/>
            </a:prstGeom>
            <a:solidFill>
              <a:srgbClr val="969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82" name="Rectangle 16"/>
            <p:cNvSpPr/>
            <p:nvPr/>
          </p:nvSpPr>
          <p:spPr>
            <a:xfrm>
              <a:off x="4241880" y="456840"/>
              <a:ext cx="3703680" cy="92520"/>
            </a:xfrm>
            <a:prstGeom prst="rect">
              <a:avLst/>
            </a:prstGeom>
            <a:solidFill>
              <a:srgbClr val="45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1T05:32:28Z</dcterms:created>
  <dc:creator/>
  <dc:description/>
  <dc:language>en-US</dc:language>
  <cp:lastModifiedBy/>
  <dcterms:modified xsi:type="dcterms:W3CDTF">2021-02-19T13:06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9F111ED35F8CC479449609E8A0923A6</vt:lpwstr>
  </property>
</Properties>
</file>