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76B5A-3D53-4877-9D6D-5EC8F147A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730D2-9246-4FE1-91B2-DF6F67B1C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E0AE7-6C82-425E-8E9B-964231052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D2D-A288-4957-A0FF-C894D06A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7FE-A421-4403-8387-07A0AC4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309BA-7DDD-4B64-98DE-631408A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1DA3D-5837-4045-BF04-9E1E39B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BCC4-4E51-4D47-8DEE-6B345AD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E027C-A020-408B-A019-DA4AEDAF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3CA0-2DA6-455A-A300-BFC6A1B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B6988-A4E3-405D-B590-2F6522A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835A5-0796-441F-A90C-3E0A383C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3327-6F6E-4753-8023-F449D9F3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8C63-163A-4998-9F7F-5D4CDFC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706C8-677A-47BC-8AA8-5C63725B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8A5-7468-4F74-BD2E-28B156DA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827A1-A02B-4294-A9FA-874D2CD9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B88A0-44C6-44FC-88DF-91AEE43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05FE2-38F7-4929-9A19-51E39DE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445AB-B093-47F9-95C1-A68E7B2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0000E-FD3A-4F48-AAB3-5ECCC79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6A6CF-5E59-42C2-9150-B94EFB7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94CEC-BEAC-465B-B11E-0E382E7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B2BDE-0FDC-4425-A26D-70CDB7A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C70E-88A6-4C13-B16A-A8108BF5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864E-9CB3-40C4-B48B-8B836E8B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38D-D140-4647-B183-E63B75CC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804ED-497D-4A6A-ACF2-DF900093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13F-2514-483E-8F9A-C40F82DB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42A5-A3BB-4C48-AFED-B2F239DC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0F12-15F0-4C39-A814-55ED2D84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FB0F-C774-453B-A546-6E0C96F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F16D-1F08-45C8-A82B-8644618A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254-373E-4AF8-8C83-6514536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91D-2DD9-466D-A1C6-D014CCB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E54-D1CF-4F36-9D9E-7FD8F89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7B0-28C5-4FCB-9DD9-C18B949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C6DA-58B8-48C1-B8A0-A03C389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3AF-725A-42B1-9CB8-8F2AABE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106-F037-48CC-B3B7-ECAC6501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36A-F237-4CE6-A287-64816A54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0B1E6-C72F-46A8-8D97-435BB11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514E-5605-44AF-9F46-87A36A0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C51B-944B-403A-A0C9-EE464CD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B453-BAE0-48FA-80D4-11497FDB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22AF-82F6-428C-8F00-3BD0A4B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A98-C5E4-48C7-B55F-4EFAA947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D7AD-7CB1-4305-8314-C8CC7167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FDE3-8145-4059-9CDB-C2AC62A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7220-87A2-4752-AE0F-352916D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CF76-8E5B-407C-8F00-B11EDFA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CE2F-C9C9-4401-B3BA-C0DC70B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C91E-DA23-4D50-86A9-21F7F881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AD66-1ED0-49DB-8024-1F13D250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1806-FAAA-4738-BA9A-AF474F1A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3C59-D403-4E67-8EA0-041E19EC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A288-F289-4E16-B79A-57550479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573-4A64-4A53-805D-01EEC1E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2801-7253-4AB7-A048-2ADC807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8D78-5C66-4918-8BE9-E0EC21B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90F2-05C4-4866-B9CD-BB5BDBD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FE2C-3415-4139-A820-EE6BC77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2B78-9D49-4DE3-89AD-54655811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D048-C6D4-406F-AC87-C01F66B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A65C-55D6-4B66-9B20-70D07664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A0DD-8BF3-4E46-B5E9-2E6C4E3A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A877-2A0F-44D1-9F63-44D7BA5B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125C-332E-4187-A928-B61B2F2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873-E47F-4632-89D3-8316CB7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F6E3-7F91-4523-A0A8-97C94C9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A892-8A1D-478F-9BF4-E068F381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84A2-13C8-4D0C-BA89-2A2C670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648A-199A-474D-9D9B-F61ACE9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07FC-EFAB-445F-98B6-342D775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410D-C3D5-4DF2-82CE-9E3460E2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E896-8337-4CEE-83DD-4C4BC75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73D77-DB91-40B4-9DBB-072F701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11EA-6CDC-4FA2-82D1-30A9749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18A8-9D4C-4640-9157-2961CED3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EC0-332B-4EB9-B1FF-094BBA5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36C2-E0A1-4DB4-8D71-34A41A03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91E1-65C7-44DA-8541-E8BCB72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1435-D4F7-4242-A862-F45476D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A25A-1B1C-40D9-BB1A-97C358F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3D40-EA19-4303-851C-C1F044B0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C1BA-8E06-46FA-BA32-F6A3D17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B7BA-2B9E-4ED6-8336-D78E390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295A-CB50-49B4-BB79-97ECAF9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70C5-40D5-4CE4-B9C1-EE3B3B4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3A10-FB7D-4840-935C-FF7FBE3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F90-9BBA-4B8B-9630-D0371D7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18AC-B228-4C4B-91EA-D38444B9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93E7-AE39-44EA-85DB-735B8328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C4D5-14E9-4435-9DF8-488A326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20B9-50DB-4C6C-BA69-090ADFCA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F2239-D50D-459A-AA50-C97106CE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B97CC-0F18-4799-8465-13D60F74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ABDF-CBA9-40E7-91A0-AD3AFF25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8648-2FD9-4CD0-88C3-BCA06B7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88137-C2C1-438D-A04E-764016B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4144A-503E-4AD1-BC78-2A82803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A49-DCC3-4364-A418-9E28460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A839-65F0-46EC-AC42-D88B295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4F4A-EAA3-4AF8-B339-F6316C5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0B0F-5856-493B-8234-4FC862B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DC0A-80AF-4E41-BCE6-09D0AD01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32D61-AF6C-437F-8912-EDD0927F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EE42D-0BBC-4DF0-A3C0-70DAD2B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D3E5-1B53-4513-98FE-A6594F29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99304-6C67-4B7B-BF4B-C8E7287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624DA-4002-46C4-A0C1-CD281696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889CD-3612-4A0C-80A0-3074A38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2B3-2589-4DCC-B426-52A686CD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0680" y="704520"/>
            <a:ext cx="11030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68D7-EEDA-42BD-A155-5C6844A2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691F-C3A5-4247-A30E-D69B39C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6C32-4331-4399-8F8A-D5B79B5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AE9AB-A728-406D-9243-83545D1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0680" y="4176000"/>
            <a:ext cx="110300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08CA8-2BD2-4D1E-9952-543B652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680" y="233496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0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32680" y="4176000"/>
            <a:ext cx="53823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D456-5FC6-4B4C-ACC0-1BDA1FF0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099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039520" y="233496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068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099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8039520" y="4176000"/>
            <a:ext cx="3551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FBD0D-DE1C-4DF2-A295-940E878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3702-EED8-4141-805D-977A14F9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6890C-733E-4109-924A-E7F44A5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77434-B262-48C8-8D43-585DD69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74ECE-59D7-4341-B1EE-16F1385DA996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8839080" y="600120"/>
            <a:ext cx="2907000" cy="58165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8992800" y="5955840"/>
            <a:ext cx="1328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774720" y="5951520"/>
            <a:ext cx="78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10446840" y="5955840"/>
            <a:ext cx="116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DA3CD-3073-40B0-88ED-F14304FA072C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6040" y="3086280"/>
            <a:ext cx="11263320" cy="33051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0558440" y="5955840"/>
            <a:ext cx="1015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68DDA-C12C-4283-A2B0-6D5C16EFBEEE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39560" y="614520"/>
            <a:ext cx="11309400" cy="11887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6C0D1-4E52-477E-A2D8-5BDE6D581450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47840" y="5141880"/>
            <a:ext cx="11289960" cy="12589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74116-4794-4E28-BEA9-0CB7A7B873B9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6040" y="606600"/>
            <a:ext cx="1130004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BEF0D-A65E-4AE2-A27D-2021989A7BCD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6040" y="606600"/>
            <a:ext cx="1130004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254BD-627C-425C-AE70-A0E22BB9F779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1360" y="606600"/>
            <a:ext cx="11299680" cy="12585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FB694-7AA6-48DC-A890-C7772287BCD1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47840" y="5141880"/>
            <a:ext cx="11298240" cy="127476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2f5a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53BD1-1AD0-41ED-8456-70E7E5FEC45A}" type="slidenum">
              <a:rPr b="0" lang="en-US" sz="900" spc="-1" strike="noStrike">
                <a:solidFill>
                  <a:srgbClr val="2f5a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6040" y="457200"/>
            <a:ext cx="3703680" cy="9540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8042400" y="453960"/>
            <a:ext cx="3703680" cy="9864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4241880" y="457200"/>
            <a:ext cx="3703680" cy="92160"/>
          </a:xfrm>
          <a:prstGeom prst="rect">
            <a:avLst/>
          </a:prstGeom>
          <a:solidFill>
            <a:srgbClr val="459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39560" y="614520"/>
            <a:ext cx="11309400" cy="118872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0680" y="704520"/>
            <a:ext cx="11030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0680" y="2334960"/>
            <a:ext cx="110300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4590b8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7605720" y="5955840"/>
            <a:ext cx="2844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691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10558440" y="5955840"/>
            <a:ext cx="1052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590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06FC3-427D-414B-9F77-97925E79EFCA}" type="slidenum">
              <a:rPr b="0" lang="en-US" sz="900" spc="-1" strike="noStrike">
                <a:solidFill>
                  <a:srgbClr val="4590b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cprautoglassrepair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16"/>
          <p:cNvGrpSpPr/>
          <p:nvPr/>
        </p:nvGrpSpPr>
        <p:grpSpPr>
          <a:xfrm>
            <a:off x="446040" y="453960"/>
            <a:ext cx="11300040" cy="98640"/>
            <a:chOff x="446040" y="453960"/>
            <a:chExt cx="11300040" cy="98640"/>
          </a:xfrm>
        </p:grpSpPr>
        <p:sp>
          <p:nvSpPr>
            <p:cNvPr id="458" name="Rectangle 17"/>
            <p:cNvSpPr/>
            <p:nvPr/>
          </p:nvSpPr>
          <p:spPr>
            <a:xfrm>
              <a:off x="446040" y="456840"/>
              <a:ext cx="3703680" cy="95760"/>
            </a:xfrm>
            <a:prstGeom prst="rect">
              <a:avLst/>
            </a:prstGeom>
            <a:solidFill>
              <a:srgbClr val="1a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59" name="Rectangle 18"/>
            <p:cNvSpPr/>
            <p:nvPr/>
          </p:nvSpPr>
          <p:spPr>
            <a:xfrm>
              <a:off x="8042400" y="453960"/>
              <a:ext cx="3703680" cy="98640"/>
            </a:xfrm>
            <a:prstGeom prst="rect">
              <a:avLst/>
            </a:prstGeom>
            <a:solidFill>
              <a:srgbClr val="969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60" name="Rectangle 19"/>
            <p:cNvSpPr/>
            <p:nvPr/>
          </p:nvSpPr>
          <p:spPr>
            <a:xfrm>
              <a:off x="4241880" y="456840"/>
              <a:ext cx="3703680" cy="92520"/>
            </a:xfrm>
            <a:prstGeom prst="rect">
              <a:avLst/>
            </a:prstGeom>
            <a:solidFill>
              <a:srgbClr val="45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571680" y="888840"/>
            <a:ext cx="11048760" cy="50803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21"/>
          <p:cNvSpPr/>
          <p:nvPr/>
        </p:nvSpPr>
        <p:spPr>
          <a:xfrm>
            <a:off x="449280" y="4427640"/>
            <a:ext cx="11260080" cy="1963800"/>
          </a:xfrm>
          <a:prstGeom prst="rect">
            <a:avLst/>
          </a:prstGeom>
          <a:solidFill>
            <a:srgbClr val="1a326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80680" y="4571640"/>
            <a:ext cx="109933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 MT"/>
              </a:rPr>
              <a:t>WINDSHIELD CHIP REPAIR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80680" y="5466960"/>
            <a:ext cx="109933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cebff"/>
                </a:solidFill>
                <a:latin typeface="Gill Sans MT"/>
              </a:rPr>
              <a:t>HTTPS://WWW.CPRAUTOGLASSREPAIR.COM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" descr=""/>
          <p:cNvPicPr/>
          <p:nvPr/>
        </p:nvPicPr>
        <p:blipFill>
          <a:blip r:embed="rId1"/>
          <a:stretch/>
        </p:blipFill>
        <p:spPr>
          <a:xfrm>
            <a:off x="1271520" y="2155680"/>
            <a:ext cx="4183200" cy="27957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6478560" y="2814480"/>
            <a:ext cx="41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Auto Gla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Quality auto glass, 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PR Auto G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 is a family owned and operated business that takes pride in the service we provide to our customer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2003400" y="2711520"/>
            <a:ext cx="8128080" cy="373680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"/>
          <p:cNvSpPr/>
          <p:nvPr/>
        </p:nvSpPr>
        <p:spPr>
          <a:xfrm>
            <a:off x="3019320" y="120816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never install anything in vehicles we do not trust or stand by. Treating our customers vehicles as our own, we stand by our work and warranti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5411880" y="2220840"/>
            <a:ext cx="6296040" cy="2894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853920" y="3002040"/>
            <a:ext cx="41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are a certified professional replacement shop for all insurance companies &amp; we also hold a tier 1 status for all major insurance companies to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805120" y="3187800"/>
            <a:ext cx="6737400" cy="2928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3125880" y="1695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r goal here is to combine outstanding service, with high quality auto glass installation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479520" y="2211480"/>
            <a:ext cx="6221160" cy="28605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2"/>
          <p:cNvSpPr/>
          <p:nvPr/>
        </p:nvSpPr>
        <p:spPr>
          <a:xfrm>
            <a:off x="7385040" y="3041640"/>
            <a:ext cx="36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 can help you avoid a poor windshield installation by offering the best price possible on your new windshiel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8042400" y="723960"/>
            <a:ext cx="3703680" cy="5667480"/>
          </a:xfrm>
          <a:prstGeom prst="rect">
            <a:avLst/>
          </a:prstGeom>
          <a:solidFill>
            <a:srgbClr val="1a3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95840" y="1418760"/>
            <a:ext cx="308124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FOR MORE DETAILS VISIT OUR SITE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520" y="3295800"/>
            <a:ext cx="728028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828282"/>
                </a:solidFill>
                <a:uFillTx/>
                <a:latin typeface="Gill Sans MT"/>
                <a:hlinkClick r:id="rId1"/>
              </a:rPr>
              <a:t>HTTPS://WWW.CPRAUTOGLASSREPAIR.COM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46040" y="453960"/>
            <a:ext cx="11300040" cy="98640"/>
            <a:chOff x="446040" y="453960"/>
            <a:chExt cx="11300040" cy="98640"/>
          </a:xfrm>
        </p:grpSpPr>
        <p:sp>
          <p:nvSpPr>
            <p:cNvPr id="480" name="Rectangle 14"/>
            <p:cNvSpPr/>
            <p:nvPr/>
          </p:nvSpPr>
          <p:spPr>
            <a:xfrm>
              <a:off x="446040" y="456840"/>
              <a:ext cx="3703680" cy="95760"/>
            </a:xfrm>
            <a:prstGeom prst="rect">
              <a:avLst/>
            </a:prstGeom>
            <a:solidFill>
              <a:srgbClr val="1a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1" name="Rectangle 15"/>
            <p:cNvSpPr/>
            <p:nvPr/>
          </p:nvSpPr>
          <p:spPr>
            <a:xfrm>
              <a:off x="8042400" y="453960"/>
              <a:ext cx="3703680" cy="98640"/>
            </a:xfrm>
            <a:prstGeom prst="rect">
              <a:avLst/>
            </a:prstGeom>
            <a:solidFill>
              <a:srgbClr val="969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2" name="Rectangle 16"/>
            <p:cNvSpPr/>
            <p:nvPr/>
          </p:nvSpPr>
          <p:spPr>
            <a:xfrm>
              <a:off x="4241880" y="456840"/>
              <a:ext cx="3703680" cy="92520"/>
            </a:xfrm>
            <a:prstGeom prst="rect">
              <a:avLst/>
            </a:prstGeom>
            <a:solidFill>
              <a:srgbClr val="459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1T05:32:28Z</dcterms:created>
  <dc:creator/>
  <dc:description/>
  <dc:language>en-US</dc:language>
  <cp:lastModifiedBy/>
  <dcterms:modified xsi:type="dcterms:W3CDTF">2021-02-19T13:06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</Properties>
</file>