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1A3F-6696-4750-89F8-FFF6587D1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0654-A67D-4347-B397-7EEEDED6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86D5-95C4-4361-A203-752D3B782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F65D-2005-4A3C-AD16-BFA0132B8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C973-756C-45DE-869B-E06B2BE5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44FB-B108-4B5F-9E92-2266A46D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A826-9C1D-4BED-B43A-6E79F4E1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954D-A90D-407B-85A0-2F106B92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DDD3-FB1C-411F-870E-A1AFDB6A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1678-1EDE-4FFB-BA52-664AAD6E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093B-6636-4197-B933-5A147F35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6E69-F650-4766-8864-FBE746CE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8FDE-E8EA-467B-B872-93E059060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14400" y="533520"/>
            <a:ext cx="7619760" cy="2860560"/>
            <a:chOff x="914400" y="533520"/>
            <a:chExt cx="7619760" cy="2860560"/>
          </a:xfrm>
        </p:grpSpPr>
        <p:sp>
          <p:nvSpPr>
            <p:cNvPr id="42" name=""/>
            <p:cNvSpPr txBox="1"/>
            <p:nvPr/>
          </p:nvSpPr>
          <p:spPr>
            <a:xfrm>
              <a:off x="914400" y="533520"/>
              <a:ext cx="7125840" cy="15703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InflateTop">
                <a:avLst>
                  <a:gd name="adj" fmla="val 319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107932" dir="2700000" blurRad="0" rotWithShape="0">
                      <a:srgbClr val="99cc00">
                        <a:alpha val="50000"/>
                      </a:srgbClr>
                    </a:outerShdw>
                  </a:effectLst>
                  <a:latin typeface=".VnBodoniH"/>
                </a:rPr>
                <a:t>Tr­êng tiÓu häc qu¸n toan</a:t>
              </a:r>
              <a:endPara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99cc00">
                      <a:alpha val="50000"/>
                    </a:srgbClr>
                  </a:outerShdw>
                </a:effectLst>
                <a:latin typeface=".VnBodoniH"/>
                <a:ea typeface=".VnBodoniH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25720" y="2753640"/>
              <a:ext cx="740844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99cc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914400" y="2743200"/>
            <a:ext cx="71629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.VnBodoniH"/>
              </a:rPr>
              <a:t>Gi¸o ¸n ®iÖn tö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.VnBodoniH"/>
              </a:rPr>
              <a:t>M«n tËp lµm v¨n líp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6019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.VnTifani HeavyH"/>
              </a:rPr>
              <a:t>Gi¸o viªn: NguyÔn ThÞ hoµng a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533520" y="914400"/>
            <a:ext cx="7772400" cy="4495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.VnClarendonH"/>
              </a:rPr>
              <a:t>NhiÖt liÖt chµo mõng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.VnClarendonH"/>
              <a:ea typeface=".VnClarendonH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.VnClarendonH"/>
              </a:rPr>
              <a:t>c¸c thÇy c« gi¸o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.VnClarendonH"/>
              <a:ea typeface=".VnClarendon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8305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.VnTime"/>
              </a:rPr>
              <a:t>Thø  hai ngµy 29 th¸ng 1 n¨m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.VnTime"/>
              </a:rPr>
              <a:t>TËp lµm v¨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4479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TimeH"/>
              </a:rPr>
              <a:t>KiÓm tra bµI c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057400"/>
            <a:ext cx="84582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Nãi lêi ®¸p l¹i trong c¸c t×nh huèng sa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.VnTim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¤ng cña mét b¹n trong líp ®Õn tr­êng t×m c« gi¸o xin phÐp cho ch¸u m×nh nghØ èm nh­ng kh«ng gÆp c« gi¸o, chØ gÆp líp tr­ën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27432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b) Em ®ang ë nhµ mét m×nh, cã mét chó ®Õn gâ cöa vµ tù giíi thiÖu: “Chó lµ thî méc ®Õn ®Ó söa cho nhµ c¸i bµ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62240" y="800280"/>
            <a:ext cx="2247840" cy="361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.VnBodoniH"/>
              </a:rPr>
              <a:t>TuÇn 20 </a:t>
            </a:r>
            <a:endParaRPr b="0" lang="en-US" sz="1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.VnBodoniH"/>
              <a:ea typeface=".VnBodoniH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.VnTime"/>
              </a:rPr>
              <a:t>Thø  hai  ngµy  29 th¸ng  1 n¨m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.VnTime"/>
              </a:rPr>
              <a:t>TËp lµm v¨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2115800" y="7086600"/>
            <a:ext cx="228600" cy="707760"/>
            <a:chOff x="12115800" y="7086600"/>
            <a:chExt cx="228600" cy="707760"/>
          </a:xfrm>
        </p:grpSpPr>
        <p:sp>
          <p:nvSpPr>
            <p:cNvPr id="54" name=""/>
            <p:cNvSpPr/>
            <p:nvPr/>
          </p:nvSpPr>
          <p:spPr>
            <a:xfrm>
              <a:off x="12115800" y="7086600"/>
              <a:ext cx="22860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66"/>
                  </a:solidFill>
                  <a:latin typeface=".VnTime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66"/>
                  </a:solidFill>
                  <a:latin typeface=".VnTime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115800" y="7467840"/>
              <a:ext cx="228600" cy="0"/>
            </a:xfrm>
            <a:prstGeom prst="line">
              <a:avLst/>
            </a:prstGeom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-247680" y="1828800"/>
            <a:ext cx="9601200" cy="3219120"/>
            <a:chOff x="-247680" y="1828800"/>
            <a:chExt cx="9601200" cy="3219120"/>
          </a:xfrm>
        </p:grpSpPr>
        <p:sp>
          <p:nvSpPr>
            <p:cNvPr id="57" name=""/>
            <p:cNvSpPr/>
            <p:nvPr/>
          </p:nvSpPr>
          <p:spPr>
            <a:xfrm>
              <a:off x="-247680" y="2209680"/>
              <a:ext cx="960120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.VnTime"/>
                </a:rPr>
                <a:t>Xu©n vÒ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.VnTime"/>
                </a:rPr>
                <a:t>ThÕ lµ mïa xu©n mong ­íc ®· ®Õn ! §Çu tiªn, tõ trong v­ên, mïi hoa hång, hoa huÖ th¬m nøc. Trong kh«ng khÝ kh«ng cßn ngöi thÊy h¬i n­íc l¹nh lÏo mµ ®Çy h­¬ng th¬m vµ ¸nh s¸ng mÆt trêi. C©y hång b× ®· cëi bá hÕt nh÷ng c¸i ¸o l¸ giµ ®en thñi. C¸c cµnh c©y ®Òu lÊm tÊm mÇm xanh. Nh÷ng cµnh xoan kh¼ng khiu ®­¬ng træ l¸, l¹i s¾p bu«ng to¶ ra nh÷ng t¸n hoa sang s¸ng, tim tÝm. Ngoµi kia, rÆng r©m bôt cïng s¾p cã nô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.VnTime"/>
                </a:rPr>
                <a:t>                                                                       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.VnTime"/>
                </a:rPr>
                <a:t>Theo T« Hoµ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95400" y="1828800"/>
              <a:ext cx="670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.VnTime"/>
                </a:rPr>
                <a:t>1. §äc ®o¹n v¨n sau vµ tr¶ lêi c©u há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-285840" y="4896000"/>
            <a:ext cx="96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0000ff"/>
              </a:buClr>
              <a:buFont typeface=".VnTim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.VnTime"/>
              </a:rPr>
              <a:t>Nh÷ng dÊu hiÖu nµo b¸o mïa xu©n ®Õ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240" y="5810400"/>
            <a:ext cx="960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.VnTime"/>
              </a:rPr>
              <a:t>- Nh×n: ¸nh s¸ng mÆt trêi, c©y cèi ®æi th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.VnTime"/>
              </a:rPr>
              <a:t>- Ngöi: h­¬ng th¬m cña c¸c lo¹i hoa vµ kh«ng kh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4419720"/>
            <a:ext cx="12765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3080" y="3162240"/>
            <a:ext cx="14284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496360" y="2838600"/>
            <a:ext cx="3999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15040" y="2857680"/>
            <a:ext cx="14288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62000" y="3143160"/>
            <a:ext cx="1828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095720" y="3467160"/>
            <a:ext cx="4724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62800" y="3162240"/>
            <a:ext cx="457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8120" y="3467160"/>
            <a:ext cx="3429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3753000"/>
            <a:ext cx="8953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04800" y="3772080"/>
            <a:ext cx="38102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43640" y="3772080"/>
            <a:ext cx="32004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38320" y="4057560"/>
            <a:ext cx="304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076640"/>
            <a:ext cx="1295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19440" y="4076640"/>
            <a:ext cx="304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62400" y="4038480"/>
            <a:ext cx="304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19200" y="4381560"/>
            <a:ext cx="9907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-304920" y="5334120"/>
            <a:ext cx="960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.VnTime"/>
              </a:rPr>
              <a:t>b) T¸c gi¶ ®· quan s¸t mïa xu©n b»ng nh÷ng c¸ch nµo( nh×n, nghe hay ngöi…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04920" y="1295280"/>
            <a:ext cx="952560" cy="400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.VnArial NarrowH"/>
              </a:rPr>
              <a:t>SGK/ 21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.VnArial NarrowH"/>
              <a:ea typeface=".VnArial NarrowH"/>
            </a:endParaRPr>
          </a:p>
        </p:txBody>
      </p:sp>
      <p:sp>
        <p:nvSpPr>
          <p:cNvPr id="79" name=""/>
          <p:cNvSpPr/>
          <p:nvPr/>
        </p:nvSpPr>
        <p:spPr>
          <a:xfrm>
            <a:off x="6915240" y="2857680"/>
            <a:ext cx="12762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0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8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14400" y="2286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28600" y="1219320"/>
            <a:ext cx="304920" cy="304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.VnArial NarrowH"/>
              </a:rPr>
              <a:t>v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.VnArial NarrowH"/>
              <a:ea typeface=".VnArial NarrowH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3581280"/>
            <a:ext cx="257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81080" y="54100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1905120"/>
            <a:ext cx="8305920" cy="42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2. H·y viÕt mét ®o¹n v¨n tõ 3 ®Õn 5 c©u nãi vÒ mïa h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Gîi ý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.VnTim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Mïa hÌ b¾t ®Çu tõ th¸ng nµo trong n¨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.VnTim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MÆt trêi mïa hÌ nh­ thÕ nµ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.VnTim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C©y tr¸i trong v­ên nh­ thÕ nµ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.VnTim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Häc sinh th­êng lµm g× vµo dÞp nghØ hÌ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.VnTim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95280" y="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.VnTime"/>
              </a:rPr>
              <a:t>Thø  hai  ngµy  29 th¸ng  1 n¨m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.VnTime"/>
              </a:rPr>
              <a:t>TËp lµm v¨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2305080"/>
            <a:ext cx="3808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2324160"/>
            <a:ext cx="1143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2324160"/>
            <a:ext cx="1295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2324160"/>
            <a:ext cx="12952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7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297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33520" y="914400"/>
            <a:ext cx="7772400" cy="4876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.VnHelvetInsH"/>
              </a:rPr>
              <a:t>xin ch©n thµnh c¶m ¬n c¸c thÇy c« gi¸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.VnHelvetInsH"/>
              <a:ea typeface=".VnHelvetIns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3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500"/>
                            </p:stCondLst>
                            <p:childTnLst>
                              <p:par>
                                <p:cTn id="33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01:47:07Z</dcterms:created>
  <dc:creator>Linh Thang</dc:creator>
  <dc:description/>
  <dc:language>en-US</dc:language>
  <cp:lastModifiedBy>Nguyen Thanh Thuy</cp:lastModifiedBy>
  <dcterms:modified xsi:type="dcterms:W3CDTF">2007-03-07T06:04:12Z</dcterms:modified>
  <cp:revision>3</cp:revision>
  <dc:subject/>
  <dc:title>Slide 1</dc:title>
</cp:coreProperties>
</file>