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C9F-059F-4DAC-AE06-9EF158E1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069-1496-4E47-9D4C-6CE9BD9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708-AF43-449D-A6C6-F0598961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A29-0834-4736-8ADB-9FF22E59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5BA-6689-4383-A152-0CBEEBAF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6C6-2E52-4D71-BDBA-23ACAC6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7DD-B027-4CE3-A441-75C9D6F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029-426E-4CBD-9230-74DB7E77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29A-FCD7-4F2F-87B7-00519F9F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2E6-BD3C-4436-A91C-FBFA6B5B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DDB-94E7-4354-9B52-B110ADDE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C79-2885-473D-B266-005DA64F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745-D490-49B5-B4FA-5223FD50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400" y="533520"/>
            <a:ext cx="7619760" cy="2860560"/>
            <a:chOff x="914400" y="533520"/>
            <a:chExt cx="7619760" cy="2860560"/>
          </a:xfrm>
        </p:grpSpPr>
        <p:sp>
          <p:nvSpPr>
            <p:cNvPr id="42" name=""/>
            <p:cNvSpPr txBox="1"/>
            <p:nvPr/>
          </p:nvSpPr>
          <p:spPr>
            <a:xfrm>
              <a:off x="914400" y="533520"/>
              <a:ext cx="7125840" cy="1570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99cc00">
                        <a:alpha val="50000"/>
                      </a:srgbClr>
                    </a:outerShdw>
                  </a:effectLst>
                  <a:latin typeface=".VnBodoniH"/>
                </a:rPr>
                <a:t>Tr­êng tiÓu häc qu¸n toan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cc00">
                      <a:alpha val="50000"/>
                    </a:srgbClr>
                  </a:outerShdw>
                </a:effectLst>
                <a:latin typeface=".VnBodoniH"/>
                <a:ea typeface=".VnBodoniH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25720" y="2753640"/>
              <a:ext cx="7408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914400" y="274320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.VnBodoniH"/>
              </a:rPr>
              <a:t>Gi¸o ¸n ®iÖn t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.VnBodoniH"/>
              </a:rPr>
              <a:t>M«n tËp lµm v¨n líp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19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.VnTifani HeavyH"/>
              </a:rPr>
              <a:t>Gi¸o viªn: NguyÔn ThÞ hoµng a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520" y="914400"/>
            <a:ext cx="7772400" cy="449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.VnClarendonH"/>
              </a:rPr>
              <a:t>NhiÖt liÖt chµo mõng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.VnClarendonH"/>
              <a:ea typeface=".VnClarendon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.VnClarendonH"/>
              </a:rPr>
              <a:t>c¸c thÇy c« gi¸o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.VnClarendonH"/>
              <a:ea typeface=".VnClarendon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hø  hai ngµy 29 th¸ng 1 n¨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Ëp lµm v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447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H"/>
              </a:rPr>
              <a:t>KiÓm tra bµI c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057400"/>
            <a:ext cx="84582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Nãi lêi ®¸p l¹i trong c¸c t×nh huèng s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¤ng cña mét b¹n trong líp ®Õn tr­êng t×m c« gi¸o xin phÐp cho ch¸u m×nh nghØ èm nh­ng kh«ng gÆp c« gi¸o, chØ gÆp líp tr­ë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743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b) Em ®ang ë nhµ mét m×nh, cã mét chó ®Õn gâ cöa vµ tù giíi thiÖu: “Chó lµ thî méc ®Õn ®Ó söa cho nhµ c¸i bµ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62240" y="800280"/>
            <a:ext cx="224784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.VnBodoniH"/>
              </a:rPr>
              <a:t>TuÇn 20 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.VnBodoniH"/>
              <a:ea typeface=".VnBodoniH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hø  hai  ngµy  29 th¸ng  1 n¨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Ëp lµm v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115800" y="7086600"/>
            <a:ext cx="228600" cy="707760"/>
            <a:chOff x="12115800" y="7086600"/>
            <a:chExt cx="228600" cy="707760"/>
          </a:xfrm>
        </p:grpSpPr>
        <p:sp>
          <p:nvSpPr>
            <p:cNvPr id="54" name=""/>
            <p:cNvSpPr/>
            <p:nvPr/>
          </p:nvSpPr>
          <p:spPr>
            <a:xfrm>
              <a:off x="12115800" y="7086600"/>
              <a:ext cx="2286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66"/>
                  </a:solidFill>
                  <a:latin typeface=".VnTime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66"/>
                  </a:solidFill>
                  <a:latin typeface=".VnTim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15800" y="7467840"/>
              <a:ext cx="228600" cy="0"/>
            </a:xfrm>
            <a:prstGeom prst="line">
              <a:avLst/>
            </a:prstGeom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-247680" y="1828800"/>
            <a:ext cx="9601200" cy="3219120"/>
            <a:chOff x="-247680" y="1828800"/>
            <a:chExt cx="9601200" cy="3219120"/>
          </a:xfrm>
        </p:grpSpPr>
        <p:sp>
          <p:nvSpPr>
            <p:cNvPr id="57" name=""/>
            <p:cNvSpPr/>
            <p:nvPr/>
          </p:nvSpPr>
          <p:spPr>
            <a:xfrm>
              <a:off x="-247680" y="2209680"/>
              <a:ext cx="96012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Xu©n v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ThÕ lµ mïa xu©n mong ­íc ®· ®Õn ! §Çu tiªn, tõ trong v­ên, mïi hoa hång, hoa huÖ th¬m nøc. Trong kh«ng khÝ kh«ng cßn ngöi thÊy h¬i n­íc l¹nh lÏo mµ ®Çy h­¬ng th¬m vµ ¸nh s¸ng mÆt trêi. C©y hång b× ®· cëi bá hÕt nh÷ng c¸i ¸o l¸ giµ ®en thñi. C¸c cµnh c©y ®Òu lÊm tÊm mÇm xanh. Nh÷ng cµnh xoan kh¼ng khiu ®­¬ng træ l¸, l¹i s¾p bu«ng to¶ ra nh÷ng t¸n hoa sang s¸ng, tim tÝm. Ngoµi kia, rÆng r©m bôt cïng s¾p cã n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                                                                   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Theo T« Hoµ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95400" y="1828800"/>
              <a:ext cx="67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1. §äc ®o¹n v¨n sau vµ tr¶ lêi c©u há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-285840" y="489600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Nh÷ng dÊu hiÖu nµo b¸o mïa xu©n ®Õ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0" y="581040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- Nh×n: ¸nh s¸ng mÆt trêi, c©y cèi ®æi th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- Ngöi: h­¬ng th¬m cña c¸c lo¹i hoa vµ kh«ng kh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419720"/>
            <a:ext cx="12765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3080" y="3162240"/>
            <a:ext cx="1428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96360" y="2838600"/>
            <a:ext cx="399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15040" y="2857680"/>
            <a:ext cx="1428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62000" y="3143160"/>
            <a:ext cx="182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95720" y="3467160"/>
            <a:ext cx="4724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62800" y="316224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3467160"/>
            <a:ext cx="3429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753000"/>
            <a:ext cx="895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04800" y="3772080"/>
            <a:ext cx="38102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43640" y="3772080"/>
            <a:ext cx="3200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38320" y="405756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076640"/>
            <a:ext cx="129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9440" y="407664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62400" y="403848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9200" y="438156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304920" y="533412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b) T¸c gi¶ ®· quan s¸t mïa xu©n b»ng nh÷ng c¸ch nµo( nh×n, nghe hay ngöi…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295280"/>
            <a:ext cx="95256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Arial NarrowH"/>
              </a:rPr>
              <a:t>SGK/ 2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Arial NarrowH"/>
              <a:ea typeface=".VnArial NarrowH"/>
            </a:endParaRPr>
          </a:p>
        </p:txBody>
      </p:sp>
      <p:sp>
        <p:nvSpPr>
          <p:cNvPr id="79" name=""/>
          <p:cNvSpPr/>
          <p:nvPr/>
        </p:nvSpPr>
        <p:spPr>
          <a:xfrm>
            <a:off x="6915240" y="2857680"/>
            <a:ext cx="1276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121932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Arial NarrowH"/>
              </a:rPr>
              <a:t>v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Arial NarrowH"/>
              <a:ea typeface=".VnArial NarrowH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581280"/>
            <a:ext cx="257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54100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905120"/>
            <a:ext cx="83059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. H·y viÕt mét ®o¹n v¨n tõ 3 ®Õn 5 c©u nãi vÒ mïa h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Gîi 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Mïa hÌ b¾t ®Çu tõ th¸ng nµo trong n¨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MÆt trêi mïa hÌ nh­ thÕ nµ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C©y tr¸i trong v­ên nh­ thÕ nµ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Häc sinh th­êng lµm g× vµo dÞp nghØ h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hø  hai  ngµy  29 th¸ng  1 n¨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Ëp lµm v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305080"/>
            <a:ext cx="380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32416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324160"/>
            <a:ext cx="129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324160"/>
            <a:ext cx="129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914400"/>
            <a:ext cx="7772400" cy="487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HelvetInsH"/>
              </a:rPr>
              <a:t>xin ch©n thµnh c¶m ¬n c¸c thÇy c« gi¸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HelvetInsH"/>
              <a:ea typeface=".VnHelvetIn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1:47:07Z</dcterms:created>
  <dc:creator>Linh Thang</dc:creator>
  <dc:description/>
  <dc:language>en-US</dc:language>
  <cp:lastModifiedBy>Nguyen Thanh Thuy</cp:lastModifiedBy>
  <dcterms:modified xsi:type="dcterms:W3CDTF">2007-03-07T06:04:12Z</dcterms:modified>
  <cp:revision>3</cp:revision>
  <dc:subject/>
  <dc:title>Slide 1</dc:title>
</cp:coreProperties>
</file>