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_rels/notesSlide114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14.xml" ContentType="application/vnd.openxmlformats-officedocument.presentationml.notesSlide+xml"/>
  <Override PartName="/ppt/_rels/presentation.xml.rels" ContentType="application/vnd.openxmlformats-package.relationships+xml"/>
  <Override PartName="/ppt/media/image123.jpeg" ContentType="image/jpeg"/>
  <Override PartName="/ppt/media/image82.wmf" ContentType="image/x-wmf"/>
  <Override PartName="/ppt/media/image122.png" ContentType="image/png"/>
  <Override PartName="/ppt/media/image121.png" ContentType="image/png"/>
  <Override PartName="/ppt/media/image120.wmf" ContentType="image/x-wmf"/>
  <Override PartName="/ppt/media/image70.jpeg" ContentType="image/jpeg"/>
  <Override PartName="/ppt/media/image53.png" ContentType="image/png"/>
  <Override PartName="/ppt/media/image118.png" ContentType="image/png"/>
  <Override PartName="/ppt/media/image106.png" ContentType="image/png"/>
  <Override PartName="/ppt/media/image174.png" ContentType="image/png"/>
  <Override PartName="/ppt/media/image104.png" ContentType="image/png"/>
  <Override PartName="/ppt/media/image172.png" ContentType="image/png"/>
  <Override PartName="/ppt/media/image103.png" ContentType="image/png"/>
  <Override PartName="/ppt/media/image171.png" ContentType="image/png"/>
  <Override PartName="/ppt/media/image102.png" ContentType="image/png"/>
  <Override PartName="/ppt/media/image170.png" ContentType="image/png"/>
  <Override PartName="/ppt/media/image101.png" ContentType="image/png"/>
  <Override PartName="/ppt/media/image100.png" ContentType="image/png"/>
  <Override PartName="/ppt/media/image99.png" ContentType="image/png"/>
  <Override PartName="/ppt/media/image98.png" ContentType="image/png"/>
  <Override PartName="/ppt/media/image126.png" ContentType="image/png"/>
  <Override PartName="/ppt/media/image97.wmf" ContentType="image/x-wmf"/>
  <Override PartName="/ppt/media/image125.png" ContentType="image/png"/>
  <Override PartName="/ppt/media/image96.wmf" ContentType="image/x-wmf"/>
  <Override PartName="/ppt/media/image124.png" ContentType="image/png"/>
  <Override PartName="/ppt/media/image95.wmf" ContentType="image/x-wmf"/>
  <Override PartName="/ppt/media/image94.wmf" ContentType="image/x-wmf"/>
  <Override PartName="/ppt/media/image88.png" ContentType="image/png"/>
  <Override PartName="/ppt/media/image116.png" ContentType="image/png"/>
  <Override PartName="/ppt/media/image87.wmf" ContentType="image/x-wmf"/>
  <Override PartName="/ppt/media/image86.png" ContentType="image/png"/>
  <Override PartName="/ppt/media/image1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91.wmf" ContentType="image/x-wmf"/>
  <Override PartName="/ppt/media/image23.wmf" ContentType="image/x-wmf"/>
  <Override PartName="/ppt/media/image69.png" ContentType="image/png"/>
  <Override PartName="/ppt/media/image68.png" ContentType="image/png"/>
  <Override PartName="/ppt/media/image65.wmf" ContentType="image/x-wmf"/>
  <Override PartName="/ppt/media/image64.wmf" ContentType="image/x-wmf"/>
  <Override PartName="/ppt/media/image63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9.png" ContentType="image/png"/>
  <Override PartName="/ppt/media/image93.png" ContentType="image/png"/>
  <Override PartName="/ppt/media/image25.png" ContentType="image/png"/>
  <Override PartName="/ppt/media/image28.png" ContentType="image/png"/>
  <Override PartName="/ppt/media/image141.png" ContentType="image/png"/>
  <Override PartName="/ppt/media/image49.wmf" ContentType="image/x-wmf"/>
  <Override PartName="/ppt/media/image143.png" ContentType="image/png"/>
  <Override PartName="/ppt/media/image51.png" ContentType="image/png"/>
  <Override PartName="/ppt/media/image148.png" ContentType="image/png"/>
  <Override PartName="/ppt/media/image89.png" ContentType="image/png"/>
  <Override PartName="/ppt/media/image46.wmf" ContentType="image/x-wmf"/>
  <Override PartName="/ppt/media/image140.png" ContentType="image/png"/>
  <Override PartName="/ppt/media/image52.png" ContentType="image/png"/>
  <Override PartName="/ppt/media/image149.png" ContentType="image/png"/>
  <Override PartName="/ppt/media/image128.png" ContentType="image/png"/>
  <Override PartName="/ppt/media/image31.png" ContentType="image/png"/>
  <Override PartName="/ppt/media/image129.png" ContentType="image/png"/>
  <Override PartName="/ppt/media/image32.png" ContentType="image/png"/>
  <Override PartName="/ppt/media/image133.png" ContentType="image/png"/>
  <Override PartName="/ppt/media/image39.wmf" ContentType="image/x-wmf"/>
  <Override PartName="/ppt/media/image47.wmf" ContentType="image/x-wmf"/>
  <Override PartName="/ppt/media/image180.jpeg" ContentType="image/jpeg"/>
  <Override PartName="/ppt/media/image134.png" ContentType="image/png"/>
  <Override PartName="/ppt/media/image135.png" ContentType="image/png"/>
  <Override PartName="/ppt/media/image136.png" ContentType="image/png"/>
  <Override PartName="/ppt/media/image138.png" ContentType="image/png"/>
  <Override PartName="/ppt/media/image41.png" ContentType="image/png"/>
  <Override PartName="/ppt/media/image139.png" ContentType="image/png"/>
  <Override PartName="/ppt/media/image42.png" ContentType="image/png"/>
  <Override PartName="/ppt/media/image54.png" ContentType="image/png"/>
  <Override PartName="/ppt/media/image162.png" ContentType="image/png"/>
  <Override PartName="/ppt/media/image163.png" ContentType="image/png"/>
  <Override PartName="/ppt/media/image164.png" ContentType="image/png"/>
  <Override PartName="/ppt/media/image165.png" ContentType="image/png"/>
  <Override PartName="/ppt/media/image45.png" ContentType="image/png"/>
  <Override PartName="/ppt/media/image131.png" ContentType="image/png"/>
  <Override PartName="/ppt/media/image168.png" ContentType="image/png"/>
  <Override PartName="/ppt/media/image132.png" ContentType="image/png"/>
  <Override PartName="/ppt/media/image169.png" ContentType="image/png"/>
  <Override PartName="/ppt/media/image161.png" ContentType="image/png"/>
  <Override PartName="/ppt/media/image159.png" ContentType="image/png"/>
  <Override PartName="/ppt/media/image48.wmf" ContentType="image/x-wmf"/>
  <Override PartName="/ppt/media/image142.png" ContentType="image/png"/>
  <Override PartName="/ppt/media/image50.png" ContentType="image/png"/>
  <Override PartName="/ppt/media/image147.png" ContentType="image/png"/>
  <Override PartName="/ppt/media/image173.png" ContentType="image/png"/>
  <Override PartName="/ppt/media/image11.png" ContentType="image/png"/>
  <Override PartName="/ppt/media/image43.png" ContentType="image/png"/>
  <Override PartName="/ppt/media/image166.png" ContentType="image/png"/>
  <Override PartName="/ppt/media/image137.png" ContentType="image/png"/>
  <Override PartName="/ppt/media/image40.png" ContentType="image/png"/>
  <Override PartName="/ppt/media/image177.wmf" ContentType="image/x-wmf"/>
  <Override PartName="/ppt/media/image58.png" ContentType="image/png"/>
  <Override PartName="/ppt/media/image44.png" ContentType="image/png"/>
  <Override PartName="/ppt/media/image130.png" ContentType="image/png"/>
  <Override PartName="/ppt/media/image36.wmf" ContentType="image/x-wmf"/>
  <Override PartName="/ppt/media/image79.png" ContentType="image/png"/>
  <Override PartName="/ppt/media/image167.png" ContentType="image/png"/>
  <Override PartName="/ppt/media/image144.png" ContentType="image/png"/>
  <Override PartName="/ppt/media/image160.png" ContentType="image/png"/>
  <Override PartName="/ppt/media/image158.png" ContentType="image/png"/>
  <Override PartName="/ppt/media/image156.jpeg" ContentType="image/jpeg"/>
  <Override PartName="/ppt/media/image21.wmf" ContentType="image/x-wmf"/>
  <Override PartName="/ppt/media/image152.png" ContentType="image/png"/>
  <Override PartName="/ppt/media/image151.png" ContentType="image/png"/>
  <Override PartName="/ppt/media/image150.png" ContentType="image/png"/>
  <Override PartName="/ppt/media/image146.png" ContentType="image/png"/>
  <Override PartName="/ppt/media/image145.png" ContentType="image/png"/>
  <Override PartName="/ppt/media/image56.png" ContentType="image/png"/>
  <Override PartName="/ppt/media/image179.png" ContentType="image/png"/>
  <Override PartName="/ppt/media/image17.png" ContentType="image/png"/>
  <Override PartName="/ppt/media/image55.png" ContentType="image/png"/>
  <Override PartName="/ppt/media/image178.png" ContentType="image/png"/>
  <Override PartName="/ppt/media/image4.png" ContentType="image/png"/>
  <Override PartName="/ppt/media/image105.wmf" ContentType="image/x-wmf"/>
  <Override PartName="/ppt/media/image38.png" ContentType="image/png"/>
  <Override PartName="/ppt/media/image37.png" ContentType="image/png"/>
  <Override PartName="/ppt/media/image30.png" ContentType="image/png"/>
  <Override PartName="/ppt/media/image127.png" ContentType="image/png"/>
  <Override PartName="/ppt/media/image10.png" ContentType="image/png"/>
  <Override PartName="/ppt/media/image107.png" ContentType="image/png"/>
  <Override PartName="/ppt/media/image175.png" ContentType="image/png"/>
  <Override PartName="/ppt/media/image81.png" ContentType="image/png"/>
  <Override PartName="/ppt/media/image13.png" ContentType="image/png"/>
  <Override PartName="/ppt/media/image35.wmf" ContentType="image/x-wmf"/>
  <Override PartName="/ppt/media/image78.png" ContentType="image/png"/>
  <Override PartName="/ppt/media/image157.wmf" ContentType="image/x-wmf"/>
  <Override PartName="/ppt/media/image5.wmf" ContentType="image/x-wmf"/>
  <Override PartName="/ppt/media/image111.png" ContentType="image/png"/>
  <Override PartName="/ppt/media/image9.wmf" ContentType="image/x-wmf"/>
  <Override PartName="/ppt/media/image115.png" ContentType="image/png"/>
  <Override PartName="/ppt/media/image14.png" ContentType="image/png"/>
  <Override PartName="/ppt/media/image108.png" ContentType="image/png"/>
  <Override PartName="/ppt/media/image176.png" ContentType="image/png"/>
  <Override PartName="/ppt/media/image2.png" ContentType="image/png"/>
  <Override PartName="/ppt/media/image154.png" ContentType="image/png"/>
  <Override PartName="/ppt/media/image8.wmf" ContentType="image/x-wmf"/>
  <Override PartName="/ppt/media/image85.wmf" ContentType="image/x-wmf"/>
  <Override PartName="/ppt/media/image114.png" ContentType="image/png"/>
  <Override PartName="/ppt/media/image1.png" ContentType="image/png"/>
  <Override PartName="/ppt/media/image153.png" ContentType="image/png"/>
  <Override PartName="/ppt/media/image7.wmf" ContentType="image/x-wmf"/>
  <Override PartName="/ppt/media/image113.png" ContentType="image/png"/>
  <Override PartName="/ppt/media/image109.png" ContentType="image/png"/>
  <Override PartName="/ppt/media/image6.wmf" ContentType="image/x-wmf"/>
  <Override PartName="/ppt/media/image112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12.png" ContentType="image/png"/>
  <Override PartName="/ppt/media/image80.png" ContentType="image/png"/>
  <Override PartName="/ppt/media/image92.jpeg" ContentType="image/jpeg"/>
  <Override PartName="/ppt/media/image26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19.png" ContentType="image/png"/>
  <Override PartName="/ppt/media/image16.png" ContentType="image/png"/>
  <Override PartName="/ppt/media/image84.png" ContentType="image/png"/>
  <Override PartName="/ppt/media/image15.png" ContentType="image/png"/>
  <Override PartName="/ppt/media/image83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66.png" ContentType="image/png"/>
  <Override PartName="/ppt/media/image24.wmf" ContentType="image/x-wmf"/>
  <Override PartName="/ppt/media/image6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459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F01-A2E4-41ED-8187-02D562E96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0DC1-EC25-4B90-80C5-E1210BE5D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AFD-B9A7-4257-936F-BFB1DEAAC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3C4C-79D1-490E-8336-624C9100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A38F-321F-4270-BCEF-BDEBEEFDD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32E7-A6C6-41E0-84A3-DC5F1851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ly, ful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E2E9-966C-4371-871E-EAB178BA9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ally indetermin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0312-80C7-4DE6-A4B4-2CCE6DA2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A8D-D0F7-45EB-81D8-D5E8ABC7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4034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09E-706A-426A-8E81-AB5C4EE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08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F15-E4E3-404E-82C0-BD7625D2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876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608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876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608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6E7-3381-4344-950E-B3942E7D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66680" y="533160"/>
            <a:ext cx="882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823-31E6-49D4-8504-1D9B357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308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4034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308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876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0800" y="144792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876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0800" y="4034880"/>
            <a:ext cx="235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6D1-B6AE-4C0F-8D73-B6769E34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24A-F170-4961-B3BD-F5EDF54C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0F2-90D8-4878-95E3-2E948E95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66680" y="533160"/>
            <a:ext cx="882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019D-FB90-4FDF-AA2E-5105126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4E4-2091-4CAA-A3BD-75C38A8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080" y="403488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3D8-9BFA-4D3A-9C5D-E17F1360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080" y="1447920"/>
            <a:ext cx="3569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348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8FE-28E2-43DE-B564-DB032EEE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45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7604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7460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74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74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2960"/>
            <a:ext cx="152388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67120" y="6568920"/>
            <a:ext cx="38908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8915400" cy="380880"/>
          </a:xfrm>
          <a:prstGeom prst="rect">
            <a:avLst/>
          </a:prstGeom>
          <a:solidFill>
            <a:srgbClr val="0b4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80880"/>
            <a:ext cx="121932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791560" y="0"/>
            <a:ext cx="352440" cy="380880"/>
          </a:xfrm>
          <a:prstGeom prst="rect">
            <a:avLst/>
          </a:prstGeom>
          <a:solidFill>
            <a:srgbClr val="ffd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219320" y="6426360"/>
            <a:ext cx="7924680" cy="152280"/>
          </a:xfrm>
          <a:prstGeom prst="rect">
            <a:avLst/>
          </a:prstGeom>
          <a:solidFill>
            <a:srgbClr val="0b4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426360"/>
            <a:ext cx="1219320" cy="152280"/>
          </a:xfrm>
          <a:prstGeom prst="rect">
            <a:avLst/>
          </a:prstGeom>
          <a:solidFill>
            <a:srgbClr val="ff0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193240" y="6593040"/>
            <a:ext cx="914400" cy="21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68a8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8797-0017-4ECE-8610-758392D52C4C}" type="slidenum">
              <a:rPr b="0" lang="en-US" sz="1000" spc="-1" strike="noStrike">
                <a:solidFill>
                  <a:srgbClr val="868a8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7" descr=""/>
          <p:cNvPicPr/>
          <p:nvPr/>
        </p:nvPicPr>
        <p:blipFill>
          <a:blip r:embed="rId2"/>
          <a:stretch/>
        </p:blipFill>
        <p:spPr>
          <a:xfrm>
            <a:off x="187200" y="5943600"/>
            <a:ext cx="1489320" cy="9144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"/>
          <p:cNvPicPr/>
          <p:nvPr/>
        </p:nvPicPr>
        <p:blipFill>
          <a:blip r:embed="rId3"/>
          <a:stretch/>
        </p:blipFill>
        <p:spPr>
          <a:xfrm>
            <a:off x="4343400" y="6184800"/>
            <a:ext cx="462456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 flipH="1" flipV="1">
            <a:off x="0" y="6553080"/>
            <a:ext cx="9144000" cy="76320"/>
          </a:xfrm>
          <a:prstGeom prst="rect">
            <a:avLst/>
          </a:prstGeom>
          <a:solidFill>
            <a:srgbClr val="ffdf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 flipH="1">
            <a:off x="227880" y="6629400"/>
            <a:ext cx="8915400" cy="228600"/>
          </a:xfrm>
          <a:prstGeom prst="rect">
            <a:avLst/>
          </a:prstGeom>
          <a:solidFill>
            <a:srgbClr val="0b4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8915400" cy="380880"/>
          </a:xfrm>
          <a:prstGeom prst="rect">
            <a:avLst/>
          </a:prstGeom>
          <a:solidFill>
            <a:srgbClr val="0b4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8791560" y="0"/>
            <a:ext cx="352440" cy="380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662940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680" y="53316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45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6812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17604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74600">
              <a:spcBef>
                <a:spcPts val="799"/>
              </a:spcBef>
              <a:buClr>
                <a:srgbClr val="0b45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74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74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6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64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166.png"/><Relationship Id="rId3" Type="http://schemas.openxmlformats.org/officeDocument/2006/relationships/image" Target="../media/image167.png"/><Relationship Id="rId4" Type="http://schemas.openxmlformats.org/officeDocument/2006/relationships/image" Target="../media/image165.png"/><Relationship Id="rId5" Type="http://schemas.openxmlformats.org/officeDocument/2006/relationships/image" Target="../media/image165.png"/><Relationship Id="rId6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68.png"/><Relationship Id="rId2" Type="http://schemas.openxmlformats.org/officeDocument/2006/relationships/image" Target="../media/image169.png"/><Relationship Id="rId3" Type="http://schemas.openxmlformats.org/officeDocument/2006/relationships/image" Target="../media/image170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7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image" Target="../media/image173.png"/><Relationship Id="rId3" Type="http://schemas.openxmlformats.org/officeDocument/2006/relationships/image" Target="../media/image174.png"/><Relationship Id="rId4" Type="http://schemas.openxmlformats.org/officeDocument/2006/relationships/image" Target="../media/image175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7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7.wmf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78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7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8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5.wmf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5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5.wmf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image" Target="../media/image115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0.png"/><Relationship Id="rId2" Type="http://schemas.openxmlformats.org/officeDocument/2006/relationships/image" Target="../media/image131.png"/><Relationship Id="rId3" Type="http://schemas.openxmlformats.org/officeDocument/2006/relationships/image" Target="../media/image1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33.png"/><Relationship Id="rId2" Type="http://schemas.openxmlformats.org/officeDocument/2006/relationships/image" Target="../media/image134.png"/><Relationship Id="rId3" Type="http://schemas.openxmlformats.org/officeDocument/2006/relationships/image" Target="../media/image135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8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40.png"/><Relationship Id="rId3" Type="http://schemas.openxmlformats.org/officeDocument/2006/relationships/image" Target="../media/image14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44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image" Target="../media/image148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42.png"/><Relationship Id="rId2" Type="http://schemas.openxmlformats.org/officeDocument/2006/relationships/image" Target="../media/image149.png"/><Relationship Id="rId3" Type="http://schemas.openxmlformats.org/officeDocument/2006/relationships/image" Target="../media/image150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5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5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53.pn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56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58.png"/><Relationship Id="rId2" Type="http://schemas.openxmlformats.org/officeDocument/2006/relationships/image" Target="../media/image159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60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6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5920" y="1384200"/>
            <a:ext cx="8286840" cy="21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Building Code Requirements for Structural Concrete (ACI 318M-11)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nalysis and Design for Flexure, Shear, Torsion, and Compression plus Bending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676520" y="3886200"/>
            <a:ext cx="5867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8120" indent="-16812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68a8b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868a8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8a8b"/>
                </a:solidFill>
                <a:latin typeface="Arial"/>
              </a:rPr>
              <a:t>David Dar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9" descr="jhwk_LF_200px"/>
          <p:cNvPicPr/>
          <p:nvPr/>
        </p:nvPicPr>
        <p:blipFill>
          <a:blip r:embed="rId1"/>
          <a:stretch/>
        </p:blipFill>
        <p:spPr>
          <a:xfrm>
            <a:off x="8153280" y="5705640"/>
            <a:ext cx="952560" cy="847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523880" y="4800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Vietnam Institute for Building Science and Technology (IB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Hanoi and Ho Chi Minh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December 12-16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76320" y="5243400"/>
            <a:ext cx="2133360" cy="13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3"/>
          <a:stretch/>
        </p:blipFill>
        <p:spPr>
          <a:xfrm>
            <a:off x="2438280" y="380880"/>
            <a:ext cx="46245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0773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– spiral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704880" y="1219320"/>
            <a:ext cx="7829640" cy="4838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6426360" y="3352680"/>
            <a:ext cx="1041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– spiral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140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tric reinforcing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gross area of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re area of column – measured to the outside diameter of the sp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ield strength of spiral reinforc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00 M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4133880" cy="1290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6654960" y="1486080"/>
            <a:ext cx="104112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train compatibility analysis and 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interaction diagr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14400" y="18288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ntricit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2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cxnSp>
        <p:nvCxnSpPr>
          <p:cNvPr id="527" name="Straight Arrow Connector 8"/>
          <p:cNvCxnSpPr/>
          <p:nvPr/>
        </p:nvCxnSpPr>
        <p:spPr>
          <a:xfrm flipH="1" flipV="1">
            <a:off x="5486040" y="3123720"/>
            <a:ext cx="457920" cy="1982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3581280" y="5105520"/>
            <a:ext cx="609840" cy="33336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21"/>
          <p:cNvGrpSpPr/>
          <p:nvPr/>
        </p:nvGrpSpPr>
        <p:grpSpPr>
          <a:xfrm>
            <a:off x="1152360" y="1314360"/>
            <a:ext cx="7305840" cy="4629240"/>
            <a:chOff x="1152360" y="1314360"/>
            <a:chExt cx="7305840" cy="4629240"/>
          </a:xfrm>
        </p:grpSpPr>
        <p:grpSp>
          <p:nvGrpSpPr>
            <p:cNvPr id="530" name="Group 14"/>
            <p:cNvGrpSpPr/>
            <p:nvPr/>
          </p:nvGrpSpPr>
          <p:grpSpPr>
            <a:xfrm>
              <a:off x="1152360" y="1314360"/>
              <a:ext cx="7305840" cy="4629240"/>
              <a:chOff x="1152360" y="1314360"/>
              <a:chExt cx="7305840" cy="4629240"/>
            </a:xfrm>
          </p:grpSpPr>
          <p:pic>
            <p:nvPicPr>
              <p:cNvPr id="531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2360" y="1314360"/>
                <a:ext cx="7305840" cy="462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7800" y="5300640"/>
                <a:ext cx="767880" cy="41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5457960"/>
                <a:ext cx="60948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4" name="Picture 7" descr=""/>
            <p:cNvPicPr/>
            <p:nvPr/>
          </p:nvPicPr>
          <p:blipFill>
            <a:blip r:embed="rId5"/>
            <a:stretch/>
          </p:blipFill>
          <p:spPr>
            <a:xfrm>
              <a:off x="3581280" y="5410440"/>
              <a:ext cx="609480" cy="3333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35" name="Straight Arrow Connector 18"/>
          <p:cNvCxnSpPr/>
          <p:nvPr/>
        </p:nvCxnSpPr>
        <p:spPr>
          <a:xfrm flipH="1" flipV="1">
            <a:off x="5559480" y="3538080"/>
            <a:ext cx="155880" cy="1796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886280" cy="666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"/>
          <p:cNvPicPr/>
          <p:nvPr/>
        </p:nvPicPr>
        <p:blipFill>
          <a:blip r:embed="rId2"/>
          <a:stretch/>
        </p:blipFill>
        <p:spPr>
          <a:xfrm>
            <a:off x="914400" y="2714760"/>
            <a:ext cx="5105520" cy="10191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761760" y="464796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"/>
          <p:cNvPicPr/>
          <p:nvPr/>
        </p:nvPicPr>
        <p:blipFill>
          <a:blip r:embed="rId3"/>
          <a:stretch/>
        </p:blipFill>
        <p:spPr>
          <a:xfrm>
            <a:off x="2857680" y="3886200"/>
            <a:ext cx="57528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Interaction diagr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6484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alanced failur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219240" y="1562040"/>
            <a:ext cx="3819240" cy="3467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2"/>
          <a:stretch/>
        </p:blipFill>
        <p:spPr>
          <a:xfrm>
            <a:off x="4800600" y="3038400"/>
            <a:ext cx="3581280" cy="2524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"/>
          <p:cNvPicPr/>
          <p:nvPr/>
        </p:nvPicPr>
        <p:blipFill>
          <a:blip r:embed="rId3"/>
          <a:stretch/>
        </p:blipFill>
        <p:spPr>
          <a:xfrm>
            <a:off x="5429160" y="1752480"/>
            <a:ext cx="905040" cy="428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"/>
          <p:cNvPicPr/>
          <p:nvPr/>
        </p:nvPicPr>
        <p:blipFill>
          <a:blip r:embed="rId4"/>
          <a:stretch/>
        </p:blipFill>
        <p:spPr>
          <a:xfrm>
            <a:off x="6343560" y="1752480"/>
            <a:ext cx="4381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esign aids and generalized interaction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iagr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4621320" y="1143000"/>
            <a:ext cx="3989160" cy="49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Object 3"/>
          <p:cNvGraphicFramePr/>
          <p:nvPr/>
        </p:nvGraphicFramePr>
        <p:xfrm>
          <a:off x="609480" y="2514600"/>
          <a:ext cx="3695760" cy="223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514600"/>
                    <a:ext cx="36957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TextBox 5"/>
          <p:cNvSpPr/>
          <p:nvPr/>
        </p:nvSpPr>
        <p:spPr>
          <a:xfrm>
            <a:off x="4115880" y="1295280"/>
            <a:ext cx="6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6"/>
          <p:cNvSpPr/>
          <p:nvPr/>
        </p:nvSpPr>
        <p:spPr>
          <a:xfrm>
            <a:off x="4041720" y="22096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Straight Arrow Connector 8"/>
          <p:cNvCxnSpPr>
            <a:stCxn id="554" idx="3"/>
          </p:cNvCxnSpPr>
          <p:nvPr/>
        </p:nvCxnSpPr>
        <p:spPr>
          <a:xfrm>
            <a:off x="4795920" y="1557360"/>
            <a:ext cx="1224720" cy="1958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7" name="Straight Arrow Connector 9"/>
          <p:cNvCxnSpPr/>
          <p:nvPr/>
        </p:nvCxnSpPr>
        <p:spPr>
          <a:xfrm>
            <a:off x="4343040" y="2590560"/>
            <a:ext cx="1677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8" name="Straight Arrow Connector 15"/>
          <p:cNvCxnSpPr/>
          <p:nvPr/>
        </p:nvCxnSpPr>
        <p:spPr>
          <a:xfrm>
            <a:off x="2971440" y="2895480"/>
            <a:ext cx="1677240" cy="5342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59" name="Straight Arrow Connector 17"/>
          <p:cNvCxnSpPr/>
          <p:nvPr/>
        </p:nvCxnSpPr>
        <p:spPr>
          <a:xfrm>
            <a:off x="4343040" y="4343040"/>
            <a:ext cx="2134440" cy="15246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pplying </a:t>
            </a:r>
            <a:r>
              <a:rPr b="1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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-factors and limits on maximum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oad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2652840" y="1228680"/>
            <a:ext cx="52718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Other provisions (not covered today)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nde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4103640" y="1295280"/>
            <a:ext cx="3440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quivalent stress block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880920" y="1523880"/>
            <a:ext cx="7382160" cy="369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890640" y="1519200"/>
            <a:ext cx="73627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ummary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914400" y="15235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and desig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ession plus b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omorrow morning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of slender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of wal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-strength concr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5"/>
          <p:cNvSpPr/>
          <p:nvPr/>
        </p:nvSpPr>
        <p:spPr>
          <a:xfrm>
            <a:off x="8193240" y="6593040"/>
            <a:ext cx="91440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E6B-B835-4084-BB81-977E548CC2F7}" type="slidenum">
              <a:rPr b="0" lang="en-US" sz="1000" spc="-1" strike="noStrike">
                <a:solidFill>
                  <a:srgbClr val="868a8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7164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572" name="Picture 5" descr="jhwk4C_LF"/>
          <p:cNvPicPr/>
          <p:nvPr/>
        </p:nvPicPr>
        <p:blipFill>
          <a:blip r:embed="rId1"/>
          <a:stretch/>
        </p:blipFill>
        <p:spPr>
          <a:xfrm>
            <a:off x="1060560" y="1143000"/>
            <a:ext cx="6788160" cy="5040360"/>
          </a:xfrm>
          <a:prstGeom prst="rect">
            <a:avLst/>
          </a:prstGeom>
          <a:ln w="0">
            <a:noFill/>
          </a:ln>
        </p:spPr>
      </p:pic>
      <p:sp>
        <p:nvSpPr>
          <p:cNvPr id="573" name="Title 1"/>
          <p:cNvSpPr/>
          <p:nvPr/>
        </p:nvSpPr>
        <p:spPr>
          <a:xfrm>
            <a:off x="166680" y="457200"/>
            <a:ext cx="88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s copy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0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raw-Hill Companie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21 Avenue of the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, NY 10020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ion authorized for use with this presentation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67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The University of Kan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avid Darwin, Ph.D., P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ane E. Ackers Distinguished Prof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rector, Structural Engineering &amp; Materials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pt. of Civil, Environmental &amp; Architectur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2142 Learned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wrence, Kansas, 66045-7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785) 864-3827    Fax: (785) 864-56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ved@k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jhwk_LF_200px"/>
          <p:cNvPicPr/>
          <p:nvPr/>
        </p:nvPicPr>
        <p:blipFill>
          <a:blip r:embed="rId1"/>
          <a:stretch/>
        </p:blipFill>
        <p:spPr>
          <a:xfrm>
            <a:off x="7128000" y="4545000"/>
            <a:ext cx="15843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ncrete stress-block parameter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41200" y="2438280"/>
            <a:ext cx="8597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tress-block parameter 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 baseline="-25000">
                <a:solidFill>
                  <a:srgbClr val="0b4599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graphicFrame>
        <p:nvGraphicFramePr>
          <p:cNvPr id="149" name="Object 2"/>
          <p:cNvGraphicFramePr/>
          <p:nvPr/>
        </p:nvGraphicFramePr>
        <p:xfrm>
          <a:off x="1066680" y="1689120"/>
          <a:ext cx="635004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89120"/>
                    <a:ext cx="635004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strength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grpSp>
        <p:nvGrpSpPr>
          <p:cNvPr id="152" name="Group 12"/>
          <p:cNvGrpSpPr/>
          <p:nvPr/>
        </p:nvGrpSpPr>
        <p:grpSpPr>
          <a:xfrm>
            <a:off x="266760" y="1971720"/>
            <a:ext cx="8610480" cy="3591000"/>
            <a:chOff x="266760" y="1971720"/>
            <a:chExt cx="8610480" cy="3591000"/>
          </a:xfrm>
        </p:grpSpPr>
        <p:pic>
          <p:nvPicPr>
            <p:cNvPr id="153" name="Picture 5" descr=""/>
            <p:cNvPicPr/>
            <p:nvPr/>
          </p:nvPicPr>
          <p:blipFill>
            <a:blip r:embed="rId1"/>
            <a:stretch/>
          </p:blipFill>
          <p:spPr>
            <a:xfrm>
              <a:off x="266760" y="1971720"/>
              <a:ext cx="8610480" cy="35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6"/>
            <p:cNvSpPr/>
            <p:nvPr/>
          </p:nvSpPr>
          <p:spPr>
            <a:xfrm>
              <a:off x="5181480" y="2209680"/>
              <a:ext cx="1143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0.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Reinforcement ratio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1143000" y="1828800"/>
          <a:ext cx="11304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1130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1193760" y="4267080"/>
          <a:ext cx="12067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3760" y="4267080"/>
                    <a:ext cx="12067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Picture 2" descr=""/>
          <p:cNvPicPr/>
          <p:nvPr/>
        </p:nvPicPr>
        <p:blipFill>
          <a:blip r:embed="rId5"/>
          <a:stretch/>
        </p:blipFill>
        <p:spPr>
          <a:xfrm>
            <a:off x="5486400" y="609480"/>
            <a:ext cx="3332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alanced condition and balanced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reinforcement ratio, </a:t>
            </a:r>
            <a:r>
              <a:rPr b="0" i="1" lang="el-GR" sz="36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  <a:ea typeface="Times New Roman"/>
              </a:rPr>
              <a:t>s</a:t>
            </a:r>
            <a:r>
              <a:rPr b="1" lang="en-US" sz="3600" spc="-1" strike="noStrike">
                <a:solidFill>
                  <a:srgbClr val="0b459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6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  <a:ea typeface="Times New Roman"/>
              </a:rPr>
              <a:t>y</a:t>
            </a:r>
            <a:r>
              <a:rPr b="1" lang="en-US" sz="3600" spc="-1" strike="noStrike">
                <a:solidFill>
                  <a:srgbClr val="0b45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591000" y="1905120"/>
            <a:ext cx="357192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4114800"/>
            <a:ext cx="6248520" cy="18795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685800" y="189216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yields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concrete crush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7162920" y="1676520"/>
            <a:ext cx="1590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Reinforcement ratio corresponding to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pecified values of steel strain </a:t>
            </a:r>
            <a:r>
              <a:rPr b="0" i="1" lang="el-GR" sz="40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= </a:t>
            </a:r>
            <a:r>
              <a:rPr b="0" i="1" lang="el-GR" sz="40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491160" cy="42865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1143000" y="360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onserv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7162920" y="2114640"/>
            <a:ext cx="1590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aximum value of 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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, </a:t>
            </a:r>
            <a:r>
              <a:rPr b="0" i="1" lang="el-GR" sz="36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  <a:ea typeface="Times New Roman"/>
              </a:rPr>
              <a:t>s</a:t>
            </a:r>
            <a:r>
              <a:rPr b="1" lang="en-US" sz="3600" spc="-1" strike="noStrike">
                <a:solidFill>
                  <a:srgbClr val="0b4599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0b4599"/>
                </a:solidFill>
                <a:latin typeface="Arial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  <a:ea typeface="Segoe UI"/>
              </a:rPr>
              <a:t>0.004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709560" y="2419200"/>
            <a:ext cx="77248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aximum </a:t>
            </a:r>
            <a:r>
              <a:rPr b="0" i="1" lang="en-US" sz="4000" spc="-1" strike="noStrike">
                <a:solidFill>
                  <a:srgbClr val="0b4599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for a tension-controlled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ember, </a:t>
            </a:r>
            <a:r>
              <a:rPr b="0" i="1" lang="el-GR" sz="3600" spc="-1" strike="noStrike">
                <a:solidFill>
                  <a:srgbClr val="0b4599"/>
                </a:solidFill>
                <a:latin typeface="Segoe UI"/>
                <a:ea typeface="Segoe UI"/>
              </a:rPr>
              <a:t>ϵ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  <a:ea typeface="Times New Roman"/>
              </a:rPr>
              <a:t>s</a:t>
            </a:r>
            <a:r>
              <a:rPr b="1" lang="en-US" sz="3600" spc="-1" strike="noStrike">
                <a:solidFill>
                  <a:srgbClr val="0b4599"/>
                </a:solidFill>
                <a:latin typeface="Arial"/>
                <a:ea typeface="Times New Roman"/>
              </a:rPr>
              <a:t> =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  <a:ea typeface="Segoe UI"/>
              </a:rPr>
              <a:t>0.005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14400" y="12949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effective maximum value of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38360" y="2362320"/>
            <a:ext cx="7667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his afterno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and design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r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ession plus b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rcRect l="0" t="2570" r="0" b="3662"/>
          <a:stretch/>
        </p:blipFill>
        <p:spPr>
          <a:xfrm>
            <a:off x="712800" y="609480"/>
            <a:ext cx="7642080" cy="556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3013200" y="2057400"/>
            <a:ext cx="568080" cy="893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4898880" y="3686040"/>
            <a:ext cx="5112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strength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84" name="Arc 15"/>
          <p:cNvSpPr/>
          <p:nvPr/>
        </p:nvSpPr>
        <p:spPr>
          <a:xfrm flipH="1">
            <a:off x="1078920" y="2233440"/>
            <a:ext cx="2197080" cy="2109960"/>
          </a:xfrm>
          <a:prstGeom prst="pi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6"/>
          <p:cNvGraphicFramePr/>
          <p:nvPr/>
        </p:nvGraphicFramePr>
        <p:xfrm>
          <a:off x="2819520" y="5003640"/>
          <a:ext cx="266688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003640"/>
                    <a:ext cx="266688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7"/>
          <p:cNvGraphicFramePr/>
          <p:nvPr/>
        </p:nvGraphicFramePr>
        <p:xfrm>
          <a:off x="1746360" y="3071880"/>
          <a:ext cx="4572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360" y="3071880"/>
                    <a:ext cx="457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Picture 11" descr=""/>
          <p:cNvPicPr/>
          <p:nvPr/>
        </p:nvPicPr>
        <p:blipFill>
          <a:blip r:embed="rId5"/>
          <a:srcRect l="0" t="2285" r="0" b="0"/>
          <a:stretch/>
        </p:blipFill>
        <p:spPr>
          <a:xfrm>
            <a:off x="3276720" y="990720"/>
            <a:ext cx="5029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inimum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the flexural strength of a reinforced concrete beam is higher than the cracking mo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tically determinate members with flange in tension, repla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smaller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flange wid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752400" y="2743200"/>
            <a:ext cx="74008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 to minimum reinforcement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vide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quir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bs and footing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,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emperature and shrinkage reinforce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3733920" y="2057400"/>
          <a:ext cx="291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057400"/>
                    <a:ext cx="291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emperature and shrinkage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1589040" y="1295280"/>
            <a:ext cx="5954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ver and spacing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4674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 [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&gt; 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 baseline="-25000">
                <a:solidFill>
                  <a:srgbClr val="0b4599"/>
                </a:solidFill>
                <a:latin typeface="Arial"/>
              </a:rPr>
              <a:t>0.005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0" y="1206360"/>
            <a:ext cx="9144000" cy="290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1905120" y="4038480"/>
            <a:ext cx="3314520" cy="733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762120" y="4952880"/>
            <a:ext cx="2685960" cy="11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4"/>
          <a:stretch/>
        </p:blipFill>
        <p:spPr>
          <a:xfrm>
            <a:off x="3962520" y="4952880"/>
            <a:ext cx="4848120" cy="1133640"/>
          </a:xfrm>
          <a:prstGeom prst="rect">
            <a:avLst/>
          </a:prstGeom>
          <a:ln w="0">
            <a:noFill/>
          </a:ln>
        </p:spPr>
      </p:pic>
      <p:cxnSp>
        <p:nvCxnSpPr>
          <p:cNvPr id="209" name="Straight Arrow Connector 8"/>
          <p:cNvCxnSpPr/>
          <p:nvPr/>
        </p:nvCxnSpPr>
        <p:spPr>
          <a:xfrm flipV="1">
            <a:off x="5028840" y="3047400"/>
            <a:ext cx="1143720" cy="10674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0" name="Straight Arrow Connector 10"/>
          <p:cNvCxnSpPr/>
          <p:nvPr/>
        </p:nvCxnSpPr>
        <p:spPr>
          <a:xfrm flipV="1">
            <a:off x="6477120" y="3276000"/>
            <a:ext cx="1296000" cy="19054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l moment capacity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2"/>
          <p:cNvGraphicFramePr/>
          <p:nvPr/>
        </p:nvGraphicFramePr>
        <p:xfrm>
          <a:off x="5772240" y="1295280"/>
          <a:ext cx="86364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2240" y="1295280"/>
                    <a:ext cx="8636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812880" y="2438280"/>
          <a:ext cx="76197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80" y="2438280"/>
                    <a:ext cx="76197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inal moment capacity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5778360" y="1295280"/>
          <a:ext cx="85104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1295280"/>
                    <a:ext cx="8510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711360" y="2057400"/>
          <a:ext cx="7823160" cy="24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360" y="2057400"/>
                    <a:ext cx="7823160" cy="24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40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reinforcement ratio so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on steel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       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calculated (quadratic equa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4419360" cy="1019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819520" y="3533760"/>
            <a:ext cx="2428920" cy="961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1905120" y="5181480"/>
            <a:ext cx="5190840" cy="914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4"/>
          <a:stretch/>
        </p:blipFill>
        <p:spPr>
          <a:xfrm>
            <a:off x="1752480" y="3733920"/>
            <a:ext cx="82260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aterial propertie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42560" indent="-142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strengths used for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ing st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2560" indent="-142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977760" y="1828800"/>
          <a:ext cx="7556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1828800"/>
                    <a:ext cx="7556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1066680" y="2387520"/>
          <a:ext cx="38228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387520"/>
                    <a:ext cx="3822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977760" y="4483080"/>
          <a:ext cx="52707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7760" y="4483080"/>
                    <a:ext cx="52707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1143000" y="5016600"/>
          <a:ext cx="3200400" cy="46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5016600"/>
                    <a:ext cx="32004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oubly reinforced beams</a:t>
            </a:r>
            <a:br>
              <a:rPr sz="3600"/>
            </a:b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ension-controlled section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3886200" cy="123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2"/>
          <p:cNvGraphicFramePr/>
          <p:nvPr/>
        </p:nvGraphicFramePr>
        <p:xfrm>
          <a:off x="1676520" y="2362320"/>
          <a:ext cx="113004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362320"/>
                    <a:ext cx="1130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 beam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785880" y="1752480"/>
            <a:ext cx="7572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ffective flange width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14300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 T b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½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r distances to next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b on only one s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a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½ clear distance to next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T b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½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320" indent="-139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nsider two cases based on neutral axis 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nalyze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ngular beam                           T beam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9154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In practice, use depth of stress block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899136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019320" cy="93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1066680" y="4952880"/>
            <a:ext cx="2324160" cy="102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4676760" y="4952880"/>
            <a:ext cx="3933720" cy="1009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4105440" y="3733920"/>
            <a:ext cx="2981160" cy="1019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"/>
          <p:cNvPicPr/>
          <p:nvPr/>
        </p:nvPicPr>
        <p:blipFill>
          <a:blip r:embed="rId5"/>
          <a:stretch/>
        </p:blipFill>
        <p:spPr>
          <a:xfrm>
            <a:off x="168120" y="598320"/>
            <a:ext cx="8747280" cy="2678400"/>
          </a:xfrm>
          <a:prstGeom prst="rect">
            <a:avLst/>
          </a:prstGeom>
          <a:ln w="0">
            <a:noFill/>
          </a:ln>
        </p:spPr>
      </p:pic>
      <p:cxnSp>
        <p:nvCxnSpPr>
          <p:cNvPr id="251" name="Straight Arrow Connector 11"/>
          <p:cNvCxnSpPr/>
          <p:nvPr/>
        </p:nvCxnSpPr>
        <p:spPr>
          <a:xfrm flipV="1">
            <a:off x="7695720" y="3276360"/>
            <a:ext cx="381960" cy="1676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2" name="Straight Arrow Connector 9"/>
          <p:cNvCxnSpPr/>
          <p:nvPr/>
        </p:nvCxnSpPr>
        <p:spPr>
          <a:xfrm flipH="1" flipV="1">
            <a:off x="6400080" y="2819160"/>
            <a:ext cx="153000" cy="915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Nominal capacity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on reinforcement for tension-controlle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12840" y="1295280"/>
            <a:ext cx="8526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4"/>
          <p:cNvGraphicFramePr/>
          <p:nvPr/>
        </p:nvGraphicFramePr>
        <p:xfrm>
          <a:off x="977760" y="2832120"/>
          <a:ext cx="344196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2832120"/>
                    <a:ext cx="344196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1301760" y="5435640"/>
          <a:ext cx="322596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01760" y="5435640"/>
                    <a:ext cx="3225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crack control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261" name="Picture 8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3098520" cy="2533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235480" y="2022480"/>
            <a:ext cx="2384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crack control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6410160" cy="1305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914400" y="12189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pac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ment clos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analysis or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2"/>
          <a:stretch/>
        </p:blipFill>
        <p:spPr>
          <a:xfrm>
            <a:off x="5086440" y="990720"/>
            <a:ext cx="3448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al crack control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14400" y="12193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of reinforcement when flanges of T beams are in ten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ribute reinforcement over smaller of effective flange width or width equal to 1/10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f the effective flange width exceeds 1/10 span, place some longitudinal reinforcement in outer portions of fl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0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ing bars – 11 siz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Actual di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ize        Actual 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9.5 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No. 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4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.7 m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No. 5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57.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9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.1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.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4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.7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.2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.8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 rot="2599200">
            <a:off x="5333760" y="3306600"/>
            <a:ext cx="19954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7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599"/>
                </a:solidFill>
                <a:latin typeface="Arial"/>
              </a:rPr>
              <a:t>Skin reinforcement required when </a:t>
            </a:r>
            <a:r>
              <a:rPr b="0" i="1" lang="en-US" sz="3200" spc="-1" strike="noStrike">
                <a:solidFill>
                  <a:srgbClr val="0b4599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b4599"/>
                </a:solidFill>
                <a:latin typeface="Arial"/>
              </a:rPr>
              <a:t> &gt; 900 mm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14040" y="1904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785960" y="1828800"/>
            <a:ext cx="60627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hear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3105000" y="2514600"/>
            <a:ext cx="528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6172200" cy="3051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Diagonal tensile stress in concret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12193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of both bending and shear st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5934240" y="2743200"/>
            <a:ext cx="282888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76440" y="1905120"/>
            <a:ext cx="7629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104920" y="914400"/>
            <a:ext cx="49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599"/>
                </a:solidFill>
                <a:latin typeface="Arial"/>
              </a:rPr>
              <a:t>Shear stress at cracking taken as shear strength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914400" y="1068480"/>
            <a:ext cx="7238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ehavior of diagonally cracked beam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828800" y="1128600"/>
            <a:ext cx="43052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eams with web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295280" y="1049400"/>
            <a:ext cx="58197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Behavior of beams with web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5400720" cy="3000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923760" y="4267080"/>
            <a:ext cx="4105440" cy="514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3"/>
          <a:stretch/>
        </p:blipFill>
        <p:spPr>
          <a:xfrm>
            <a:off x="1600200" y="5029200"/>
            <a:ext cx="3124080" cy="647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4"/>
          <a:stretch/>
        </p:blipFill>
        <p:spPr>
          <a:xfrm>
            <a:off x="5543640" y="5181480"/>
            <a:ext cx="17715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ntribution of stirrup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635040" y="1320840"/>
          <a:ext cx="802620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320840"/>
                    <a:ext cx="802620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Flexure  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304920" y="2590920"/>
            <a:ext cx="8219880" cy="2590560"/>
            <a:chOff x="304920" y="2590920"/>
            <a:chExt cx="8219880" cy="2590560"/>
          </a:xfrm>
        </p:grpSpPr>
        <p:pic>
          <p:nvPicPr>
            <p:cNvPr id="122" name="Picture 4" descr=""/>
            <p:cNvPicPr/>
            <p:nvPr/>
          </p:nvPicPr>
          <p:blipFill>
            <a:blip r:embed="rId1"/>
            <a:stretch/>
          </p:blipFill>
          <p:spPr>
            <a:xfrm>
              <a:off x="304920" y="2590920"/>
              <a:ext cx="821988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7" descr=""/>
            <p:cNvPicPr/>
            <p:nvPr/>
          </p:nvPicPr>
          <p:blipFill>
            <a:blip r:embed="rId2"/>
            <a:stretch/>
          </p:blipFill>
          <p:spPr>
            <a:xfrm>
              <a:off x="4267080" y="4762440"/>
              <a:ext cx="571320" cy="41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otal shear capacity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taken conservatively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23920" cy="1114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1104840" y="5029200"/>
            <a:ext cx="323856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6"/>
          <p:cNvGraphicFramePr/>
          <p:nvPr/>
        </p:nvGraphicFramePr>
        <p:xfrm>
          <a:off x="1079640" y="2959200"/>
          <a:ext cx="707364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2959200"/>
                    <a:ext cx="70736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Inclined stirrup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5572080" cy="32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Object 6"/>
          <p:cNvGraphicFramePr/>
          <p:nvPr/>
        </p:nvGraphicFramePr>
        <p:xfrm>
          <a:off x="1231920" y="4114800"/>
          <a:ext cx="6769080" cy="185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1920" y="4114800"/>
                    <a:ext cx="6769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CI provisions – summary      [Note </a:t>
            </a:r>
            <a:r>
              <a:rPr b="0" i="1" lang="en-US" sz="3600" spc="-1" strike="noStrike">
                <a:solidFill>
                  <a:srgbClr val="0b4599"/>
                </a:solidFill>
                <a:latin typeface="Symbol"/>
                <a:ea typeface="Symbol"/>
              </a:rPr>
              <a:t>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419640" cy="990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1238400" y="3124080"/>
            <a:ext cx="5848200" cy="1067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290520" y="4267080"/>
            <a:ext cx="8562960" cy="1067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990720" y="5610240"/>
            <a:ext cx="3238560" cy="71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Object 9"/>
          <p:cNvGraphicFramePr/>
          <p:nvPr/>
        </p:nvGraphicFramePr>
        <p:xfrm>
          <a:off x="1295280" y="1219320"/>
          <a:ext cx="58168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1219320"/>
                    <a:ext cx="5816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ightweight concrete factor </a:t>
            </a:r>
            <a:r>
              <a:rPr b="0" i="1" lang="en-US" sz="3800" spc="-1" strike="noStrike">
                <a:solidFill>
                  <a:srgbClr val="0b4599"/>
                </a:solidFill>
                <a:latin typeface="Symbol"/>
                <a:ea typeface="Symbol"/>
              </a:rPr>
              <a:t></a:t>
            </a:r>
            <a:endParaRPr b="0" lang="en-US" sz="38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.0 for normalweight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0b4599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85 for sand-lightweight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0b4599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 for all-lightweight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http://www.structuremag.org/images/0608-is-1.jpg"/>
          <p:cNvPicPr/>
          <p:nvPr/>
        </p:nvPicPr>
        <p:blipFill>
          <a:blip r:embed="rId1"/>
          <a:stretch/>
        </p:blipFill>
        <p:spPr>
          <a:xfrm>
            <a:off x="1704960" y="3886200"/>
            <a:ext cx="26384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inimum web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.5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for footings and solid slabs; certain hollow-core slabs; concrete joists; beams with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250 mm; beams integral with slab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600 mm, 2.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0.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ams made of steel fiber-reinforced concrete with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0 MPa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 mm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5962680" cy="133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4"/>
          <p:cNvGraphicFramePr/>
          <p:nvPr/>
        </p:nvGraphicFramePr>
        <p:xfrm>
          <a:off x="5486400" y="5105520"/>
          <a:ext cx="406440" cy="4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5105520"/>
                    <a:ext cx="4064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5"/>
          <p:cNvGraphicFramePr/>
          <p:nvPr/>
        </p:nvGraphicFramePr>
        <p:xfrm>
          <a:off x="3054240" y="5505480"/>
          <a:ext cx="2781360" cy="57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54240" y="5505480"/>
                    <a:ext cx="2781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2"/>
          <p:cNvGraphicFramePr/>
          <p:nvPr/>
        </p:nvGraphicFramePr>
        <p:xfrm>
          <a:off x="990720" y="1523880"/>
          <a:ext cx="70866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866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aximum stirrup spacing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 (0.75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estressed con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alues are reduced by 50%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2"/>
          <p:cNvGraphicFramePr/>
          <p:nvPr/>
        </p:nvGraphicFramePr>
        <p:xfrm>
          <a:off x="1371600" y="3581280"/>
          <a:ext cx="19940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581280"/>
                    <a:ext cx="1994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ritical sect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ections closer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 for prestressed concrete) from the face of a support may be taken as the value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 provided that three conditions are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reaction introduces compression into the en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applied at or near top of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centrated load placed between critical sectio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 and the face of th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752480" y="452520"/>
            <a:ext cx="55627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6680" y="38052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tirrup desig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914400" y="10666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2523960" cy="1038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990720" y="2124000"/>
            <a:ext cx="4610160" cy="11527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"/>
          <p:cNvPicPr/>
          <p:nvPr/>
        </p:nvPicPr>
        <p:blipFill>
          <a:blip r:embed="rId3"/>
          <a:stretch/>
        </p:blipFill>
        <p:spPr>
          <a:xfrm>
            <a:off x="3657600" y="3200400"/>
            <a:ext cx="5010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209680" y="838080"/>
            <a:ext cx="563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Prestressed concret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91520" cy="35877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5"/>
          <p:cNvSpPr/>
          <p:nvPr/>
        </p:nvSpPr>
        <p:spPr>
          <a:xfrm>
            <a:off x="3684240" y="5253120"/>
            <a:ext cx="73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c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5655960" y="5253120"/>
            <a:ext cx="62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8"/>
          <p:cNvCxnSpPr/>
          <p:nvPr/>
        </p:nvCxnSpPr>
        <p:spPr>
          <a:xfrm flipH="1" flipV="1">
            <a:off x="3123720" y="4952160"/>
            <a:ext cx="610560" cy="381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5" name="Straight Arrow Connector 12"/>
          <p:cNvCxnSpPr/>
          <p:nvPr/>
        </p:nvCxnSpPr>
        <p:spPr>
          <a:xfrm flipH="1" flipV="1">
            <a:off x="5333760" y="4343040"/>
            <a:ext cx="57384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for prestressed concrete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144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n as distance from extreme compressive fiber to centroid of prestressing steel but need not be taken &lt; 0.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hea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ken as distance from extreme compressive fiber to centroid of prestressing steel and nonprestressed steel (if any) but need not be taken &lt; 0.8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hear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= lesser of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i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w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d from load combination of factored superimposed dead and live load causing maximum factored moment a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6257880" cy="1314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51484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2" name="Object 4"/>
          <p:cNvGraphicFramePr/>
          <p:nvPr/>
        </p:nvGraphicFramePr>
        <p:xfrm>
          <a:off x="6705720" y="1447920"/>
          <a:ext cx="218412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447920"/>
                    <a:ext cx="2184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= lesser of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i</a:t>
            </a: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 and </a:t>
            </a:r>
            <a:r>
              <a:rPr b="0" i="1" lang="en-US" sz="3600" spc="-1" strike="noStrike">
                <a:solidFill>
                  <a:srgbClr val="0b4599"/>
                </a:solidFill>
                <a:latin typeface="Arial"/>
              </a:rPr>
              <a:t>V</a:t>
            </a:r>
            <a:r>
              <a:rPr b="0" i="1" lang="en-US" sz="3600" spc="-1" strike="noStrike" baseline="-25000">
                <a:solidFill>
                  <a:srgbClr val="0b4599"/>
                </a:solidFill>
                <a:latin typeface="Arial"/>
              </a:rPr>
              <a:t>cw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hear due to unfactored self weight of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distance from centroid to tension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ression at tension face du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ress due to unfactored beam self weight at extreme fiber of section where tensile stress is cause by extern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6257880" cy="1314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51484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8" name="Object 2"/>
          <p:cNvGraphicFramePr/>
          <p:nvPr/>
        </p:nvGraphicFramePr>
        <p:xfrm>
          <a:off x="6705720" y="1447920"/>
          <a:ext cx="218412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447920"/>
                    <a:ext cx="21841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mpressive stress at concrete centroid und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vertical component of effective prestress forc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32484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Simplified desig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9144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720" indent="-16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3.4 and 11.3.5 address conditions near the ends of pretensioned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15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Other provisions (not covered today)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axial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09120" y="12193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64048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910480" cy="51814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4361040" y="182880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4935600" y="4886280"/>
            <a:ext cx="33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tibility 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ge b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ly stiff       Torsionally flex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695160" y="1066680"/>
            <a:ext cx="4867560" cy="199728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 4"/>
          <p:cNvGrpSpPr/>
          <p:nvPr/>
        </p:nvGrpSpPr>
        <p:grpSpPr>
          <a:xfrm>
            <a:off x="1600200" y="3657600"/>
            <a:ext cx="6095880" cy="1828800"/>
            <a:chOff x="1600200" y="3657600"/>
            <a:chExt cx="6095880" cy="1828800"/>
          </a:xfrm>
        </p:grpSpPr>
        <p:pic>
          <p:nvPicPr>
            <p:cNvPr id="390" name="Picture 2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1600200" y="3914640"/>
              <a:ext cx="608652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2" descr=""/>
            <p:cNvPicPr/>
            <p:nvPr/>
          </p:nvPicPr>
          <p:blipFill>
            <a:blip r:embed="rId3"/>
            <a:stretch/>
          </p:blipFill>
          <p:spPr>
            <a:xfrm>
              <a:off x="1609560" y="3657600"/>
              <a:ext cx="60865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033560" y="1143000"/>
            <a:ext cx="70768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09520" y="1752480"/>
            <a:ext cx="8724960" cy="36100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51920" y="18284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142200" y="914400"/>
            <a:ext cx="318744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es ca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o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4807800" y="400212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Straight Arrow Connector 7"/>
          <p:cNvCxnSpPr/>
          <p:nvPr/>
        </p:nvCxnSpPr>
        <p:spPr>
          <a:xfrm flipH="1" flipV="1">
            <a:off x="4266720" y="3961800"/>
            <a:ext cx="610560" cy="3625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80880" y="1162080"/>
            <a:ext cx="8001000" cy="4857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-walled tube under torsion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lo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Straight Arrow Connector 5"/>
          <p:cNvCxnSpPr/>
          <p:nvPr/>
        </p:nvCxnSpPr>
        <p:spPr>
          <a:xfrm flipH="1" flipV="1">
            <a:off x="3885480" y="4495320"/>
            <a:ext cx="1524600" cy="5342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380880" y="944640"/>
            <a:ext cx="3762360" cy="23320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cxnSp>
        <p:nvCxnSpPr>
          <p:cNvPr id="404" name="Straight Arrow Connector 5"/>
          <p:cNvCxnSpPr/>
          <p:nvPr/>
        </p:nvCxnSpPr>
        <p:spPr>
          <a:xfrm flipH="1" flipV="1">
            <a:off x="2057040" y="2514240"/>
            <a:ext cx="915120" cy="5342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4229280" y="1752480"/>
            <a:ext cx="4000320" cy="695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4267080" y="2695680"/>
            <a:ext cx="1914480" cy="581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"/>
          <p:cNvPicPr/>
          <p:nvPr/>
        </p:nvPicPr>
        <p:blipFill>
          <a:blip r:embed="rId4"/>
          <a:stretch/>
        </p:blipFill>
        <p:spPr>
          <a:xfrm>
            <a:off x="4343400" y="3600360"/>
            <a:ext cx="159084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5"/>
          <a:stretch/>
        </p:blipFill>
        <p:spPr>
          <a:xfrm>
            <a:off x="4238640" y="4371840"/>
            <a:ext cx="1704960" cy="1038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"/>
          <p:cNvSpPr/>
          <p:nvPr/>
        </p:nvSpPr>
        <p:spPr>
          <a:xfrm>
            <a:off x="2973960" y="2819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2"/>
          <p:cNvGraphicFramePr/>
          <p:nvPr/>
        </p:nvGraphicFramePr>
        <p:xfrm>
          <a:off x="501480" y="533520"/>
          <a:ext cx="5981760" cy="62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533520"/>
                    <a:ext cx="5981760" cy="62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4" name="Picture 2" descr=""/>
          <p:cNvPicPr/>
          <p:nvPr/>
        </p:nvPicPr>
        <p:blipFill>
          <a:blip r:embed="rId3"/>
          <a:stretch/>
        </p:blipFill>
        <p:spPr>
          <a:xfrm>
            <a:off x="5410080" y="0"/>
            <a:ext cx="376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sion in reinforced concrete member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vs.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4495680" cy="50166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4788000" y="2209680"/>
            <a:ext cx="4051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C:\Documents and Settings\daved\My Documents\Documents\Sohar\Plans, photos, and calculations\Photographs\photo_21 Oct.JPG"/>
          <p:cNvPicPr/>
          <p:nvPr/>
        </p:nvPicPr>
        <p:blipFill>
          <a:blip r:embed="rId1"/>
          <a:stretch/>
        </p:blipFill>
        <p:spPr>
          <a:xfrm>
            <a:off x="609480" y="83808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racking, area enclosed by shear path is defin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sured to centerline of outermost closed transverse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rcRect l="4202" t="6893" r="9689" b="4898"/>
          <a:stretch/>
        </p:blipFill>
        <p:spPr>
          <a:xfrm>
            <a:off x="2895480" y="2743200"/>
            <a:ext cx="6248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33520" y="457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supplied by side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rcRect l="4202" t="6893" r="9689" b="4898"/>
          <a:stretch/>
        </p:blipFill>
        <p:spPr>
          <a:xfrm>
            <a:off x="2895480" y="1981080"/>
            <a:ext cx="6248520" cy="4114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762120" y="1504800"/>
            <a:ext cx="19047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733560" cy="2727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2"/>
          <a:stretch/>
        </p:blipFill>
        <p:spPr>
          <a:xfrm>
            <a:off x="4543560" y="2743200"/>
            <a:ext cx="2019240" cy="8478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3"/>
          <a:stretch/>
        </p:blipFill>
        <p:spPr>
          <a:xfrm>
            <a:off x="4619520" y="3743280"/>
            <a:ext cx="2867040" cy="1057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"/>
          <p:cNvPicPr/>
          <p:nvPr/>
        </p:nvPicPr>
        <p:blipFill>
          <a:blip r:embed="rId4"/>
          <a:stretch/>
        </p:blipFill>
        <p:spPr>
          <a:xfrm>
            <a:off x="4619520" y="4800600"/>
            <a:ext cx="3381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4714920" cy="1257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2209680" y="3276720"/>
            <a:ext cx="3391200" cy="990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838080" y="2486160"/>
            <a:ext cx="35528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14480" y="1328760"/>
            <a:ext cx="8572320" cy="461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t working load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ed transforme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in axial direction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553440" cy="1905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5029200" cy="952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3"/>
          <a:stretch/>
        </p:blipFill>
        <p:spPr>
          <a:xfrm>
            <a:off x="990720" y="3952800"/>
            <a:ext cx="63435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itudinal steel to resist torsion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446" name="Picture 3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6343920" cy="1143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2"/>
          <a:stretch/>
        </p:blipFill>
        <p:spPr>
          <a:xfrm>
            <a:off x="1247760" y="1600200"/>
            <a:ext cx="1114560" cy="609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3"/>
          <a:stretch/>
        </p:blipFill>
        <p:spPr>
          <a:xfrm>
            <a:off x="2590920" y="2486160"/>
            <a:ext cx="33526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orsion plus shear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2224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low section             Solid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1279440" y="1143000"/>
            <a:ext cx="6296040" cy="2771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571680" y="4754520"/>
            <a:ext cx="3679560" cy="808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"/>
          <p:cNvPicPr/>
          <p:nvPr/>
        </p:nvPicPr>
        <p:blipFill>
          <a:blip r:embed="rId3"/>
          <a:stretch/>
        </p:blipFill>
        <p:spPr>
          <a:xfrm>
            <a:off x="4708440" y="4694400"/>
            <a:ext cx="390204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CI provision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to 6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4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085920" cy="9428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2"/>
          <a:stretch/>
        </p:blipFill>
        <p:spPr>
          <a:xfrm>
            <a:off x="3124080" y="4457880"/>
            <a:ext cx="5753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inimal torsion</a:t>
            </a:r>
            <a:br>
              <a:rPr sz="3600"/>
            </a:b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 torsional effect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¼ cracking torque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336204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Equilibrium vs. Compatibility 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684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54440" indent="-15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mbers subjected to compatibility torsion, member is assumed to crack in torsion, reducing its rotational stiffness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reduced to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acking torque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ed bending moments and resulting shears must be used to design adjoining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4440" indent="-15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"/>
          <p:cNvPicPr/>
          <p:nvPr/>
        </p:nvPicPr>
        <p:blipFill>
          <a:blip r:embed="rId1"/>
          <a:stretch/>
        </p:blipFill>
        <p:spPr>
          <a:xfrm>
            <a:off x="3962520" y="3400560"/>
            <a:ext cx="32004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imitations on shear stres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combined shear and torsion, total shear str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imi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46767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imitations on shear stres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low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1471680" y="1924200"/>
            <a:ext cx="6200640" cy="1123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552600" y="4419720"/>
            <a:ext cx="8038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Reinforcement for Shear and 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621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ingle leg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2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shear and to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085920" cy="9432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"/>
          <p:cNvPicPr/>
          <p:nvPr/>
        </p:nvPicPr>
        <p:blipFill>
          <a:blip r:embed="rId2"/>
          <a:stretch/>
        </p:blipFill>
        <p:spPr>
          <a:xfrm>
            <a:off x="781200" y="2467080"/>
            <a:ext cx="3181320" cy="12668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3"/>
          <a:stretch/>
        </p:blipFill>
        <p:spPr>
          <a:xfrm>
            <a:off x="914400" y="4943520"/>
            <a:ext cx="3038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1057320" y="1066680"/>
            <a:ext cx="70293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At ultimate load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371520" y="1438200"/>
            <a:ext cx="8391600" cy="4657680"/>
            <a:chOff x="371520" y="1438200"/>
            <a:chExt cx="8391600" cy="4657680"/>
          </a:xfrm>
        </p:grpSpPr>
        <p:pic>
          <p:nvPicPr>
            <p:cNvPr id="136" name="Picture 5" descr=""/>
            <p:cNvPicPr/>
            <p:nvPr/>
          </p:nvPicPr>
          <p:blipFill>
            <a:blip r:embed="rId1"/>
            <a:stretch/>
          </p:blipFill>
          <p:spPr>
            <a:xfrm>
              <a:off x="371520" y="1438200"/>
              <a:ext cx="8391600" cy="45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"/>
            <p:cNvPicPr/>
            <p:nvPr/>
          </p:nvPicPr>
          <p:blipFill>
            <a:blip r:embed="rId2"/>
            <a:stretch/>
          </p:blipFill>
          <p:spPr>
            <a:xfrm>
              <a:off x="6929640" y="5257800"/>
              <a:ext cx="63792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Minimum transverse reinforcement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914400" y="9140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8, 30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ing requirements for shear also a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6320" indent="-16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914400" y="1222200"/>
            <a:ext cx="6496200" cy="1216080"/>
          </a:xfrm>
          <a:prstGeom prst="rect">
            <a:avLst/>
          </a:prstGeom>
          <a:ln w="0">
            <a:noFill/>
          </a:ln>
        </p:spPr>
      </p:pic>
      <p:sp>
        <p:nvSpPr>
          <p:cNvPr id="482" name="Title 1"/>
          <p:cNvSpPr/>
          <p:nvPr/>
        </p:nvSpPr>
        <p:spPr>
          <a:xfrm>
            <a:off x="243000" y="3276720"/>
            <a:ext cx="88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  <a:ea typeface="MS Pゴシック"/>
              </a:rPr>
              <a:t>Maximum spacing of transverse reinfor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Longitudinal reinforcement for torsion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276360" cy="12668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2"/>
          <a:stretch/>
        </p:blipFill>
        <p:spPr>
          <a:xfrm>
            <a:off x="1019160" y="2514600"/>
            <a:ext cx="568656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838080" y="12949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ongitudinal bars at perimeter of section spaced 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00 mm, at every corner of stirrups, and no smaller than No. 10 bar. Must be anchored to develo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face of sup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5" descr=""/>
          <p:cNvPicPr/>
          <p:nvPr/>
        </p:nvPicPr>
        <p:blipFill>
          <a:blip r:embed="rId3"/>
          <a:stretch/>
        </p:blipFill>
        <p:spPr>
          <a:xfrm>
            <a:off x="1600200" y="3867120"/>
            <a:ext cx="6400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Other provisions (not covered today)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 of axial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etails of hollow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Compression plus bending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8" descr="Sea01.jpg (37808 bytes)"/>
          <p:cNvPicPr/>
          <p:nvPr/>
        </p:nvPicPr>
        <p:blipFill>
          <a:blip r:embed="rId1"/>
          <a:stretch/>
        </p:blipFill>
        <p:spPr>
          <a:xfrm>
            <a:off x="4114800" y="2743200"/>
            <a:ext cx="3695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vi-VN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14040" y="121932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75 for spiral colum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b4599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5 for tie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1"/>
          <p:cNvGrpSpPr/>
          <p:nvPr/>
        </p:nvGrpSpPr>
        <p:grpSpPr>
          <a:xfrm>
            <a:off x="6350040" y="1284120"/>
            <a:ext cx="1041480" cy="3592800"/>
            <a:chOff x="6350040" y="1284120"/>
            <a:chExt cx="1041480" cy="3592800"/>
          </a:xfrm>
        </p:grpSpPr>
        <p:pic>
          <p:nvPicPr>
            <p:cNvPr id="496" name="Picture 5" descr=""/>
            <p:cNvPicPr/>
            <p:nvPr/>
          </p:nvPicPr>
          <p:blipFill>
            <a:blip r:embed="rId1"/>
            <a:stretch/>
          </p:blipFill>
          <p:spPr>
            <a:xfrm>
              <a:off x="6350040" y="1284120"/>
              <a:ext cx="104148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6" descr=""/>
            <p:cNvPicPr/>
            <p:nvPr/>
          </p:nvPicPr>
          <p:blipFill>
            <a:blip r:embed="rId2"/>
            <a:stretch/>
          </p:blipFill>
          <p:spPr>
            <a:xfrm>
              <a:off x="6350040" y="3254040"/>
              <a:ext cx="937080" cy="162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heoretical maximum axial capacity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40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gross (total) area of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otal area of steel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2"/>
          <p:cNvGraphicFramePr/>
          <p:nvPr/>
        </p:nvGraphicFramePr>
        <p:xfrm>
          <a:off x="1066680" y="1727280"/>
          <a:ext cx="461016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27280"/>
                    <a:ext cx="461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599"/>
                </a:solidFill>
                <a:latin typeface="Arial"/>
              </a:rPr>
              <a:t>Maximum axial loads permitted by ACI 318</a:t>
            </a:r>
            <a:endParaRPr b="0" lang="en-US" sz="32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1404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ally reinforce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1128600" y="1828800"/>
            <a:ext cx="6886800" cy="762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" descr=""/>
          <p:cNvPicPr/>
          <p:nvPr/>
        </p:nvPicPr>
        <p:blipFill>
          <a:blip r:embed="rId2"/>
          <a:stretch/>
        </p:blipFill>
        <p:spPr>
          <a:xfrm>
            <a:off x="1190520" y="3429000"/>
            <a:ext cx="6762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- tie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No. 10 for longitudinal bars up to No. 32 and at least No. 13 for No. 36, 43, and 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the length of the colum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meter of longitudinal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meter of tie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 dimension of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6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9367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- ties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14400" y="114300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rner and alternate longitudinal bar shall have lateral support provided by the corner of a tie with an included ang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5 degrees and no bar shall be farther than 150 mm clear on each side along the tie from such a laterally supported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3386160" y="3921120"/>
            <a:ext cx="57578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6680" y="456840"/>
            <a:ext cx="88250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4599"/>
                </a:solidFill>
                <a:latin typeface="Arial"/>
              </a:rPr>
              <a:t>Transverse reinforcement – ties  </a:t>
            </a:r>
            <a:endParaRPr b="0" lang="en-US" sz="3600" spc="-1" strike="noStrike">
              <a:solidFill>
                <a:srgbClr val="0b4599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91440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-168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2054160" y="1143000"/>
            <a:ext cx="495612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3:13:01Z</dcterms:created>
  <dc:creator>gruman</dc:creator>
  <dc:description/>
  <dc:language>en-US</dc:language>
  <cp:lastModifiedBy>namibst</cp:lastModifiedBy>
  <dcterms:modified xsi:type="dcterms:W3CDTF">2011-12-06T09:32:43Z</dcterms:modified>
  <cp:revision>563</cp:revision>
  <dc:subject/>
  <dc:title>Importance of Qualification Slab</dc:title>
</cp:coreProperties>
</file>