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5.gif" ContentType="image/gif"/>
  <Override PartName="/ppt/media/image14.jpeg" ContentType="image/jpeg"/>
  <Override PartName="/ppt/media/image3.gif" ContentType="image/gif"/>
  <Override PartName="/ppt/media/image2.jpeg" ContentType="image/jpeg"/>
  <Override PartName="/ppt/media/image23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E78A-59D1-459B-B4E4-96DD70DBC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CE8-1F0A-4CCF-8DF2-3BB1BFFB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A54-C445-43B6-9687-96882C6D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1456-7303-42F6-95CC-8BEF51BF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EC52-60DA-4810-BB01-F2CC7470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2D6BE-7162-4B28-9955-F5F9BB06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A412-89F7-4E3B-B812-34DDFEEB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269CE-60EC-434C-99C8-211A979C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0602-DD6E-4EDF-96C8-82519028A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F2DCD-F0B1-4C1B-BC1F-8BEFC1E33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EC1B-5621-4328-8078-19D1D093B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F28-063F-4066-B8A2-FD124213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A09F-C624-46D9-ADA4-F654C3C6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D2708-5AE7-4F21-B372-6EA8B2B1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140E-C6BC-49B8-8D54-550D2317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39F8-66CF-4988-9EE1-CD012896E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B26C-848D-43DD-899F-6441FCE5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30A9-B078-4009-8BBE-B28A7293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F7BE-7ADA-4C3C-A5EE-84F1FD554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E02A-E4C1-44E3-8FA3-6FB784EC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2811-E7DA-4CDC-ABA2-54DCBBBCD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76CE-471B-471F-9D61-A40B35C4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CBAB-5793-4A89-AA4D-64AA68E0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E60D-B1E5-4B5E-862F-49099103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F150-4919-40E8-9258-EBAEA13EB94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6C91-F066-4F41-B061-1D472896BDF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946680" y="5516640"/>
            <a:ext cx="18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3600" spc="-1" strike="noStrike">
                <a:solidFill>
                  <a:srgbClr val="660066"/>
                </a:solidFill>
                <a:latin typeface="Times New Roman"/>
              </a:rPr>
              <a:t>Kamilar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63640" y="1628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4000" spc="-1" strike="noStrike">
                <a:solidFill>
                  <a:srgbClr val="660066"/>
                </a:solidFill>
                <a:latin typeface="Times New Roman"/>
              </a:rPr>
              <a:t>Villa Mandrak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619440" cy="27241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28600" y="5716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905120"/>
            <a:ext cx="4317840" cy="27730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 flipV="1">
            <a:off x="1279440" y="5049000"/>
            <a:ext cx="268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63520" y="5106960"/>
            <a:ext cx="57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Vor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Een mooi kretisch bergdorpje met een etnologisch muze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87280" y="476280"/>
            <a:ext cx="36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34080" y="714240"/>
            <a:ext cx="649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Ko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Hier vind je naast het mooie strand ook nog overblijfselen van 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Minoische nederzet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16600" y="1081080"/>
            <a:ext cx="750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60066"/>
                </a:solidFill>
                <a:latin typeface="Times New Roman"/>
              </a:rPr>
              <a:t>Zar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60066"/>
                </a:solidFill>
                <a:latin typeface="Times New Roman"/>
              </a:rPr>
              <a:t>Typisch bergdorp, hier begint de Rouvaskloof….een mooie wan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08040" y="2327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148360" y="3860640"/>
            <a:ext cx="3429000" cy="1905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08040" y="21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258920" y="3860640"/>
            <a:ext cx="3352680" cy="1905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908000" y="5950080"/>
            <a:ext cx="88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660066"/>
                </a:solidFill>
                <a:latin typeface="Times New Roman"/>
              </a:rPr>
              <a:t>Gav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58770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660066"/>
                </a:solidFill>
                <a:latin typeface="Times New Roman"/>
              </a:rPr>
              <a:t>Agia Gali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13440" y="1914480"/>
            <a:ext cx="6557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Agia Gali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Voormalig vissersdorpje….nu een echt toeristisch plaatsj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Van hieruit mogelijk daguitstappen te maken naar: Prevelli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Agios Pavlos, Gavdos enz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88000" y="3213000"/>
            <a:ext cx="3456000" cy="2735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075320" y="401760"/>
            <a:ext cx="761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Mi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Grootste stadje in de buurt vooral handig voor inkopen. Hier vind j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naast de supermarkten, dokters, apothekers en banken ook een kl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ziekenhuis voor eerste hul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Op zaterdagvoormiddag is het markt; naast een groot aanbod groen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en fruit is deze markt ook bekend door zijn zigeuners die voornamelij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660066"/>
                </a:solidFill>
                <a:latin typeface="Times New Roman"/>
              </a:rPr>
              <a:t>kleding verkop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66680" y="380880"/>
            <a:ext cx="7467840" cy="54864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360" y="598176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660066"/>
                </a:solidFill>
                <a:latin typeface="Times New Roman"/>
              </a:rPr>
              <a:t>Oude olijfbomen op z’n mooi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28240" y="295200"/>
            <a:ext cx="396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660066"/>
                </a:solidFill>
                <a:latin typeface="Times New Roman"/>
              </a:rPr>
              <a:t>Tips voor wandelingen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2666880" cy="22496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40280" y="167652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643280" y="3429000"/>
            <a:ext cx="396108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427640" y="2421000"/>
            <a:ext cx="38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Moni Odigistrias….venetiaans kloo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cover dir="l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75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87280" y="1004760"/>
            <a:ext cx="755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60066"/>
                </a:solidFill>
                <a:latin typeface="Times New Roman"/>
              </a:rPr>
              <a:t>Via verschillende kloven zoals de Oleander- en Marsalakloof kan 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60066"/>
                </a:solidFill>
                <a:latin typeface="Times New Roman"/>
              </a:rPr>
              <a:t>te voet mooie stranden bereiken en onderweg genieten van bloeie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660066"/>
                </a:solidFill>
                <a:latin typeface="Times New Roman"/>
              </a:rPr>
              <a:t>oleanders en palmbomen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2057400" cy="3276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419640" y="2708280"/>
            <a:ext cx="5257800" cy="33195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447920" y="504720"/>
            <a:ext cx="6629400" cy="5848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56560" y="625788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Bloemenpracht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3311280" cy="2316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3313080" cy="2232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1332000" y="3500280"/>
            <a:ext cx="3311280" cy="25210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tretch/>
        </p:blipFill>
        <p:spPr>
          <a:xfrm>
            <a:off x="5219640" y="3500280"/>
            <a:ext cx="3313080" cy="2521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685240" y="6138720"/>
            <a:ext cx="258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Bloemenpracht……lente…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140360" y="3068640"/>
            <a:ext cx="4608360" cy="32432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042920" y="333360"/>
            <a:ext cx="3084480" cy="4114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4477680" y="1001880"/>
            <a:ext cx="42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Kom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3 km lang zandstrand, zelfs hier is ge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massatoerisme….dit dank zij de minoisch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opgravingen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125360" y="647640"/>
            <a:ext cx="35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660066"/>
                </a:solidFill>
                <a:latin typeface="Times New Roman"/>
              </a:rPr>
              <a:t>Een zeer mooie plek….Agios Pav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7391160" cy="4305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7543800" cy="3048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124080" y="2895480"/>
            <a:ext cx="1246320" cy="936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60360" y="386064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04920" y="4354560"/>
            <a:ext cx="180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64960" y="3952800"/>
            <a:ext cx="274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660066"/>
                </a:solidFill>
                <a:latin typeface="Times New Roman"/>
              </a:rPr>
              <a:t>Welkom in Kami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22920" y="4506840"/>
            <a:ext cx="7136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0066"/>
                </a:solidFill>
                <a:latin typeface="Times New Roman"/>
              </a:rPr>
              <a:t>Gelegen op 3 km van de Lybische zee, is Kamilari een prima uitvalsbasis voor zowel strand- 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0066"/>
                </a:solidFill>
                <a:latin typeface="Times New Roman"/>
              </a:rPr>
              <a:t>wandeltoerisme als voor culturele uitstappen in Zuid Kre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0066"/>
                </a:solidFill>
                <a:latin typeface="Times New Roman"/>
              </a:rPr>
              <a:t>Herakleon ligt op ca. 60 k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400" spc="-1" strike="noStrike">
                <a:solidFill>
                  <a:srgbClr val="660066"/>
                </a:solidFill>
                <a:latin typeface="Times New Roman"/>
              </a:rPr>
              <a:t>Rethymnon op ca. 70 k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629400" cy="4610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202040" y="571680"/>
            <a:ext cx="375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660066"/>
                </a:solidFill>
                <a:latin typeface="Times New Roman"/>
              </a:rPr>
              <a:t>Mooie rotsformaties ….. Agios Pav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wipe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8000" y="1628640"/>
            <a:ext cx="548352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598400" y="569880"/>
            <a:ext cx="43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Veel plezier en rust in Mandrakia - Kamila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58400" y="6114960"/>
            <a:ext cx="34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Jos 42 – Mandrakia – Ned. – 02/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7772400" cy="60962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281280" y="6066000"/>
            <a:ext cx="12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De bunga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480000" cy="4176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32000" y="790560"/>
            <a:ext cx="403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400" spc="-1" strike="noStrike">
                <a:solidFill>
                  <a:srgbClr val="660066"/>
                </a:solidFill>
                <a:latin typeface="Times New Roman"/>
              </a:rPr>
              <a:t>Bungalow en privaat zwem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2857680" cy="2133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715000" y="4343400"/>
            <a:ext cx="2857680" cy="2146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5638680" y="1676520"/>
            <a:ext cx="2895840" cy="228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174680" y="4049640"/>
            <a:ext cx="4290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Binnenzicht bungalow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Badkamer met douch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Woonkeuken volledig ingericht met wasmachin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koffiezet, toaster etc…satteliet TV en vid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Aparte slaapkam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12000">
    <p:pull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7467480" cy="5486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041200" y="6060960"/>
            <a:ext cx="46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>
                <a:solidFill>
                  <a:srgbClr val="660066"/>
                </a:solidFill>
                <a:latin typeface="Times New Roman"/>
              </a:rPr>
              <a:t>Genieten van de zachte avonden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7239240" cy="5778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619280" y="6093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800" spc="-1" strike="noStrike">
                <a:solidFill>
                  <a:srgbClr val="660066"/>
                </a:solidFill>
                <a:latin typeface="Times New Roman"/>
              </a:rPr>
              <a:t>Terras met zicht op dorp, zee en Psiloritis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280880" y="447840"/>
            <a:ext cx="23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660066"/>
                </a:solidFill>
                <a:latin typeface="Times New Roman"/>
              </a:rPr>
              <a:t>Enkele tip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03480" y="1488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57200" y="10288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205740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267080" y="2286000"/>
            <a:ext cx="2895840" cy="19810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11040" y="4710240"/>
            <a:ext cx="657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660066"/>
                </a:solidFill>
                <a:latin typeface="Times New Roman"/>
              </a:rPr>
              <a:t>Agia Triad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660066"/>
                </a:solidFill>
                <a:latin typeface="Times New Roman"/>
              </a:rPr>
              <a:t>Op ca. 3 km van Festos ligt dit in 1550 v.X gebouwde Minoische marktdorp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87800" y="1025640"/>
            <a:ext cx="7288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Festos:  Na Knossos de belangrijkste Minoische opgraving   Ca 1900 v.X gebouw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en in 1700 v.X door aardbeving verwoest; werderopbouw terug aangevat in 1450 v.X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echter nooit beeindig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79440" y="11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27640" y="3716280"/>
            <a:ext cx="3962160" cy="228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05920" y="593640"/>
            <a:ext cx="7578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Gorti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Tijdens de Romeinse bezetting was Gortis de hoofdstad van de Messara; en van hier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werd Rome voozien van graan. Hier werden de oude wetteksten teruggevonden ( in st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gehouwen, ca 500-450 v.X) die het dagelijks leven moesten rege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Matal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Graven uitgehouwen in de rotsen, die in de jaren 60/70 door hippies bewoond wer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1600" spc="-1" strike="noStrike">
                <a:solidFill>
                  <a:srgbClr val="660066"/>
                </a:solidFill>
                <a:latin typeface="Times New Roman"/>
              </a:rPr>
              <a:t>Een legende vertelt dat Zeus hier met Europa aan land is gekom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0:45:24Z</dcterms:created>
  <dc:creator> jacobs jozef</dc:creator>
  <dc:description/>
  <dc:language>en-US</dc:language>
  <cp:lastModifiedBy>jos jacobs</cp:lastModifiedBy>
  <dcterms:modified xsi:type="dcterms:W3CDTF">2009-02-07T08:59:08Z</dcterms:modified>
  <cp:revision>7</cp:revision>
  <dc:subject/>
  <dc:title>PowerPoint-presentatie</dc:title>
</cp:coreProperties>
</file>