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247-26B1-47F8-8C76-AD778098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579-2C3B-4253-B7F5-B5D7C47D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AFE-B046-4F77-A5A2-1DA1FF2A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975-2056-45FF-8222-D01ED131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5488-6893-4DC4-A7E5-5B9B179C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D307-109D-4A8D-96AA-B75E9929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55D9-0F28-4BA7-8B3E-23BE6768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EF6C-D709-42C0-9CD3-7A622462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C37B-3BBF-430A-86E6-D5760FBA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A666-BDD8-48D6-81BB-95874D53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87E5-A1FF-499A-B4C3-F0FB2353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318-3D4F-4A94-B3B3-1641690A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093D-D359-4D3D-AA13-5915E1DE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5DF0-3185-4086-8213-8FD97421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7AC7-DDBB-41D4-A5ED-C6D0FF4C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BC5D-5D6D-45F2-B344-D9FB7660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0976-B2D4-456E-9E22-A51A41E4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F41-B8DD-4235-99C6-BA3369A9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89C-5B31-464F-AACD-D15DEF41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A92-603C-45A7-91ED-803145C3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1CD-EC39-4823-8F06-CF776003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2C7-BADB-4C75-93DA-1B7B4282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9BC-4D3F-4DC0-9EDD-69CD3B1C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045-E3C7-4B8B-AA5E-7E14F591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EE76-2295-4AA9-A59C-12F496AC11B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C1CF-9365-4A27-888D-AEC59778B1B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46680" y="5516640"/>
            <a:ext cx="18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660066"/>
                </a:solidFill>
                <a:latin typeface="Times New Roman"/>
              </a:rPr>
              <a:t>Kamil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1628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0066"/>
                </a:solidFill>
                <a:latin typeface="Times New Roman"/>
              </a:rPr>
              <a:t>Villa Mandrak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619440" cy="2724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28600" y="571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17840" cy="2773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1279440" y="5049000"/>
            <a:ext cx="268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63520" y="5106960"/>
            <a:ext cx="57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Vor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Een mooi kretisch bergdorpje met een etnologisch muze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476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4080" y="714240"/>
            <a:ext cx="649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Ko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Hier vind je naast het mooie strand ook nog overblijfselen van 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Minoische nederzet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16600" y="1081080"/>
            <a:ext cx="750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60066"/>
                </a:solidFill>
                <a:latin typeface="Times New Roman"/>
              </a:rPr>
              <a:t>Zar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60066"/>
                </a:solidFill>
                <a:latin typeface="Times New Roman"/>
              </a:rPr>
              <a:t>Typisch bergdorp, hier begint de Rouvaskloof….een mooie wa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0804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8360" y="3860640"/>
            <a:ext cx="3429000" cy="190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080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3352680" cy="1905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08000" y="595008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660066"/>
                </a:solidFill>
                <a:latin typeface="Times New Roman"/>
              </a:rPr>
              <a:t>Gav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5877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660066"/>
                </a:solidFill>
                <a:latin typeface="Times New Roman"/>
              </a:rPr>
              <a:t>Agia G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13440" y="1914480"/>
            <a:ext cx="655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Agia Gal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Voormalig vissersdorpje….nu een echt toeristisch plaats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Van hieruit mogelijk daguitstappen te maken naar: Prevell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Agios Pavlos, Gavdos enz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3456000" cy="2735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75320" y="401760"/>
            <a:ext cx="761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Mi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Grootste stadje in de buurt vooral handig voor inkopen. Hier vind 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naast de supermarkten, dokters, apothekers en banken ook een 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ziekenhuis voor eerste hul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Op zaterdagvoormiddag is het markt; naast een groot aanbod gro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en fruit is deze markt ook bekend door zijn zigeuners die voornam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kleding verko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467840" cy="548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59817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660066"/>
                </a:solidFill>
                <a:latin typeface="Times New Roman"/>
              </a:rPr>
              <a:t>Oude olijfbomen op z’n moo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28240" y="29520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660066"/>
                </a:solidFill>
                <a:latin typeface="Times New Roman"/>
              </a:rPr>
              <a:t>Tips voor wandeling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2666880" cy="2249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40280" y="16765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96108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427640" y="242100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Moni Odigistrias….venetiaans kloo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7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87280" y="1004760"/>
            <a:ext cx="755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60066"/>
                </a:solidFill>
                <a:latin typeface="Times New Roman"/>
              </a:rPr>
              <a:t>Via verschillende kloven zoals de Oleander- en Marsalakloof kan 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60066"/>
                </a:solidFill>
                <a:latin typeface="Times New Roman"/>
              </a:rPr>
              <a:t>te voet mooie stranden bereiken en onderweg genieten van bloei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60066"/>
                </a:solidFill>
                <a:latin typeface="Times New Roman"/>
              </a:rPr>
              <a:t>oleanders en palmbomen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2057400" cy="32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19640" y="2708280"/>
            <a:ext cx="5257800" cy="3319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504720"/>
            <a:ext cx="6629400" cy="584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56560" y="62578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Bloemenpracht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3311280" cy="2316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3313080" cy="2232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332000" y="3500280"/>
            <a:ext cx="3311280" cy="2521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521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85240" y="6138720"/>
            <a:ext cx="25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Bloemenpracht……lente…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40360" y="3068640"/>
            <a:ext cx="4608360" cy="324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308448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477680" y="1001880"/>
            <a:ext cx="42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Ko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3 km lang zandstrand, zelfs hier is g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massatoerisme….dit dank zij de minois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opgravingen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25360" y="647640"/>
            <a:ext cx="35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660066"/>
                </a:solidFill>
                <a:latin typeface="Times New Roman"/>
              </a:rPr>
              <a:t>Een zeer mooie plek….Agios Pav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391160" cy="4305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54380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1246320" cy="936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60360" y="38606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04920" y="4354560"/>
            <a:ext cx="18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64960" y="39528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660066"/>
                </a:solidFill>
                <a:latin typeface="Times New Roman"/>
              </a:rPr>
              <a:t>Welkom in Kami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22920" y="4506840"/>
            <a:ext cx="7136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0066"/>
                </a:solidFill>
                <a:latin typeface="Times New Roman"/>
              </a:rPr>
              <a:t>Gelegen op 3 km van de Lybische zee, is Kamilari een prima uitvalsbasis voor zowel strand- 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0066"/>
                </a:solidFill>
                <a:latin typeface="Times New Roman"/>
              </a:rPr>
              <a:t>wandeltoerisme als voor culturele uitstappen in Zuid Kre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0066"/>
                </a:solidFill>
                <a:latin typeface="Times New Roman"/>
              </a:rPr>
              <a:t>Herakleon ligt op ca. 60 k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0066"/>
                </a:solidFill>
                <a:latin typeface="Times New Roman"/>
              </a:rPr>
              <a:t>Rethymnon op ca. 70 k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629400" cy="4610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202040" y="57168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660066"/>
                </a:solidFill>
                <a:latin typeface="Times New Roman"/>
              </a:rPr>
              <a:t>Mooie rotsformaties ….. Agios Pav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483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98400" y="569880"/>
            <a:ext cx="43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Veel plezier en rust in Mandrakia - Kami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58400" y="6114960"/>
            <a:ext cx="34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Jos 42 – Mandrakia – Ned. – 02/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772400" cy="609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281280" y="606600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De bunga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480000" cy="417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32000" y="79056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660066"/>
                </a:solidFill>
                <a:latin typeface="Times New Roman"/>
              </a:rPr>
              <a:t>Bungalow en privaat zwem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4343400"/>
            <a:ext cx="2857680" cy="214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89584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74680" y="4049640"/>
            <a:ext cx="4290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Binnenzicht bungalo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Badkamer met do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Woonkeuken volledig ingericht met wasmachin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koffiezet, toaster etc…satteliet TV en vid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Aparte slaapkam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41200" y="606096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60066"/>
                </a:solidFill>
                <a:latin typeface="Times New Roman"/>
              </a:rPr>
              <a:t>Genieten van de zachte avonden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239240" cy="5778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19280" y="6093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Terras met zicht op dorp, zee en Psiloriti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80880" y="44784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660066"/>
                </a:solidFill>
                <a:latin typeface="Times New Roman"/>
              </a:rPr>
              <a:t>Enkele tip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348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57200" y="1028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289584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1040" y="4710240"/>
            <a:ext cx="657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660066"/>
                </a:solidFill>
                <a:latin typeface="Times New Roman"/>
              </a:rPr>
              <a:t>Agia Tria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660066"/>
                </a:solidFill>
                <a:latin typeface="Times New Roman"/>
              </a:rPr>
              <a:t>Op ca. 3 km van Festos ligt dit in 1550 v.X gebouwde Minoische marktdor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87800" y="1025640"/>
            <a:ext cx="7288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Festos:  Na Knossos de belangrijkste Minoische opgraving   Ca 1900 v.X gebouw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en in 1700 v.X door aardbeving verwoest; werderopbouw terug aangevat in 1450 v.X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echter nooit beeindig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79440" y="11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27640" y="3716280"/>
            <a:ext cx="396216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05920" y="593640"/>
            <a:ext cx="7578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Gort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Tijdens de Romeinse bezetting was Gortis de hoofdstad van de Messara; en van hier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werd Rome voozien van graan. Hier werden de oude wetteksten teruggevonden ( in st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gehouwen, ca 500-450 v.X) die het dagelijks leven moesten rege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Matal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Graven uitgehouwen in de rotsen, die in de jaren 60/70 door hippies bewoond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Een legende vertelt dat Zeus hier met Europa aan land is geko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0:45:24Z</dcterms:created>
  <dc:creator> jacobs jozef</dc:creator>
  <dc:description/>
  <dc:language>en-US</dc:language>
  <cp:lastModifiedBy>jos jacobs</cp:lastModifiedBy>
  <dcterms:modified xsi:type="dcterms:W3CDTF">2009-02-07T08:59:08Z</dcterms:modified>
  <cp:revision>7</cp:revision>
  <dc:subject/>
  <dc:title>PowerPoint-presentatie</dc:title>
</cp:coreProperties>
</file>